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6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1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theme/theme15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</p:sldMasterIdLst>
  <p:notesMasterIdLst>
    <p:notesMasterId r:id="rId34"/>
  </p:notesMasterIdLst>
  <p:sldIdLst>
    <p:sldId id="256" r:id="rId35"/>
    <p:sldId id="257" r:id="rId36"/>
    <p:sldId id="258" r:id="rId37"/>
    <p:sldId id="259" r:id="rId38"/>
    <p:sldId id="260" r:id="rId39"/>
    <p:sldId id="261" r:id="rId40"/>
    <p:sldId id="262" r:id="rId41"/>
    <p:sldId id="263" r:id="rId42"/>
    <p:sldId id="264" r:id="rId43"/>
    <p:sldId id="265" r:id="rId44"/>
    <p:sldId id="266" r:id="rId45"/>
    <p:sldId id="267" r:id="rId46"/>
    <p:sldId id="268" r:id="rId47"/>
    <p:sldId id="269" r:id="rId48"/>
    <p:sldId id="270" r:id="rId49"/>
    <p:sldId id="271" r:id="rId50"/>
    <p:sldId id="272" r:id="rId51"/>
    <p:sldId id="273" r:id="rId52"/>
    <p:sldId id="274" r:id="rId53"/>
    <p:sldId id="275" r:id="rId54"/>
    <p:sldId id="276" r:id="rId55"/>
    <p:sldId id="277" r:id="rId56"/>
    <p:sldId id="278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notesMaster" Target="notesMasters/notesMaster1.xml"/><Relationship Id="rId35" Type="http://schemas.openxmlformats.org/officeDocument/2006/relationships/slide" Target="slides/slide1.xml"/><Relationship Id="rId36" Type="http://schemas.openxmlformats.org/officeDocument/2006/relationships/slide" Target="slides/slide2.xml"/><Relationship Id="rId37" Type="http://schemas.openxmlformats.org/officeDocument/2006/relationships/slide" Target="slides/slide3.xml"/><Relationship Id="rId38" Type="http://schemas.openxmlformats.org/officeDocument/2006/relationships/slide" Target="slides/slide4.xml"/><Relationship Id="rId39" Type="http://schemas.openxmlformats.org/officeDocument/2006/relationships/slide" Target="slides/slide5.xml"/><Relationship Id="rId40" Type="http://schemas.openxmlformats.org/officeDocument/2006/relationships/slide" Target="slides/slide6.xml"/><Relationship Id="rId41" Type="http://schemas.openxmlformats.org/officeDocument/2006/relationships/slide" Target="slides/slide7.xml"/><Relationship Id="rId42" Type="http://schemas.openxmlformats.org/officeDocument/2006/relationships/slide" Target="slides/slide8.xml"/><Relationship Id="rId43" Type="http://schemas.openxmlformats.org/officeDocument/2006/relationships/slide" Target="slides/slide9.xml"/><Relationship Id="rId44" Type="http://schemas.openxmlformats.org/officeDocument/2006/relationships/slide" Target="slides/slide10.xml"/><Relationship Id="rId45" Type="http://schemas.openxmlformats.org/officeDocument/2006/relationships/slide" Target="slides/slide11.xml"/><Relationship Id="rId46" Type="http://schemas.openxmlformats.org/officeDocument/2006/relationships/slide" Target="slides/slide12.xml"/><Relationship Id="rId47" Type="http://schemas.openxmlformats.org/officeDocument/2006/relationships/slide" Target="slides/slide13.xml"/><Relationship Id="rId48" Type="http://schemas.openxmlformats.org/officeDocument/2006/relationships/slide" Target="slides/slide14.xml"/><Relationship Id="rId49" Type="http://schemas.openxmlformats.org/officeDocument/2006/relationships/slide" Target="slides/slide15.xml"/><Relationship Id="rId50" Type="http://schemas.openxmlformats.org/officeDocument/2006/relationships/slide" Target="slides/slide16.xml"/><Relationship Id="rId51" Type="http://schemas.openxmlformats.org/officeDocument/2006/relationships/slide" Target="slides/slide17.xml"/><Relationship Id="rId52" Type="http://schemas.openxmlformats.org/officeDocument/2006/relationships/slide" Target="slides/slide18.xml"/><Relationship Id="rId53" Type="http://schemas.openxmlformats.org/officeDocument/2006/relationships/slide" Target="slides/slide19.xml"/><Relationship Id="rId54" Type="http://schemas.openxmlformats.org/officeDocument/2006/relationships/slide" Target="slides/slide20.xml"/><Relationship Id="rId55" Type="http://schemas.openxmlformats.org/officeDocument/2006/relationships/slide" Target="slides/slide21.xml"/><Relationship Id="rId56" Type="http://schemas.openxmlformats.org/officeDocument/2006/relationships/slide" Target="slides/slide22.xml"/><Relationship Id="rId57" Type="http://schemas.openxmlformats.org/officeDocument/2006/relationships/slide" Target="slides/slide23.xml"/><Relationship Id="rId5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0" name="PlaceHolder 2"/>
          <p:cNvSpPr>
            <a:spLocks noGrp="1"/>
          </p:cNvSpPr>
          <p:nvPr>
            <p:ph type="dt" idx="5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3" name="PlaceHolder 5"/>
          <p:cNvSpPr>
            <a:spLocks noGrp="1"/>
          </p:cNvSpPr>
          <p:nvPr>
            <p:ph type="ftr" idx="6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4" name="PlaceHolder 6"/>
          <p:cNvSpPr>
            <a:spLocks noGrp="1"/>
          </p:cNvSpPr>
          <p:nvPr>
            <p:ph type="sldNum" idx="6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0D7D0-7EB5-498C-BB14-A106E1DCA3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C5824-55AC-4B78-BE0B-027CC15A8C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801C7-0F91-4861-8284-F7B046FAE2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B16D8-F9C4-4D4C-B693-32E0C6ECBD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92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935EF-737A-417E-AF57-0828244FC1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D2E9E-98F5-4D8D-8BC2-8352B83BFA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93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29E5E-40D8-4CB3-8D39-685037547C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24460-3928-43FF-AC0D-A35D7DBD10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93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0800D-17AF-4C78-8555-12805EF4D8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FB49A-7ECF-45E8-83B5-6FDA0DC2D1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16CFA-11E5-4BA3-B8F0-D40A2F01C4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11646-CE6B-4F40-ADD5-813125D329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94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67EF7-3F34-4749-96F7-020C6C26DE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F9A16-1D99-4655-B1CC-EF416900CE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94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53EE5-2AAC-4FAB-A2AF-52EF6DE364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86E93-6BDF-44CE-91A2-1698BDE68A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95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93431-A3D3-41B6-B3CE-DD794F58A8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9BFA7-50B5-43C7-8E26-2E29188B20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95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D657F-A9E0-4078-9C68-CF807CA6BB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DB760-DD2A-4DD5-8B32-DD616C00DF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959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BACD4-59B2-41E5-B7E7-555B49BAFE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B2C12-B2E8-4FA7-A11B-2EC165B383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96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D9D31-6B4C-44F3-93E4-D69926C473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8A66F-5CDC-441B-80EA-2E44B1AF4F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FD6E6-73D2-47E4-B89C-AE6DA88CC5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BBC00-2251-4509-8C3B-A41F08EE0A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97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BE8DC-3AF9-48B2-A707-53FE4EB257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7ED7C-C4B8-4E78-B7FF-CF8ED795DC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8B334-B5B3-45A2-BB64-0CB75E2CA8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A871F-EFD1-48F9-9D66-D1CAA38492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F8071-C8CA-42BC-A4B9-7F6F74D7DE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90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7BD65-AEF0-47AA-956D-5BD8F963ED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CEA98-F14F-4775-BB39-3F9C4A012D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ECB08-5EA0-46CA-BF52-56D7FF5657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9C28A-76BD-41CC-A430-F1FFF28FD8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02CE4-E4FE-4BCD-B52B-C6B388F3B4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9D48D-188F-4981-95E4-81E1A16593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91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440B6-9532-416D-ABB2-C7D0E8D16C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E87B6-262E-40FD-AAAA-C9A25C5591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02EBA-4C54-47AF-9AD1-0DC71597C9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B68D9-DE5A-4793-A891-22C26BB32C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92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42147D-9EE6-466C-8296-E7A2A97E93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9204CC-7D00-412B-8CCA-F3EC6DB1E42E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40B6280-6B57-4472-81C0-9A3AF10DB959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B6B39FF-988D-455F-901F-0F4A9496E2B1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991B1BC-C6FA-448C-8278-FBD955A8F283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0BEF8BA-AF23-4F37-9440-AB86A367FBE6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FF9897C-65A9-4182-B76B-BD44968F38C3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D8B8317-7D8B-47C5-AE87-9CE504AD1F87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2FCCC57-E903-475F-BB52-6D15BC6877F7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3EFC6DE-3467-47BB-A7F7-BA13B51DDAB4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CD67CC4-506C-4AC7-AB16-3B7F662044E8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A4C02BB-A896-4BC7-8AAB-2A7D30125F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8A69DE-99C0-4210-B428-190ABA13F5CC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488A4E2-036C-45BE-BF91-2465074422D8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CE32C98-09A2-4158-A430-425085FC033F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E080CFB-43F4-4329-B5AF-4355BDADF343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5AB8EF2-FB48-4582-B229-D0B36919C820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675A132-24F8-4B05-BCB7-7A2AC6BC9CC3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AB52B91-487A-4885-A514-E2B2420910A3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9612442-98D2-4C1A-9F2F-34E857EBFEE6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A71E6D0-37A8-4A3D-89B5-13DB43EED94C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8A725CA-42D6-48DF-A17F-4279818B3A89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DBC053F-E489-42DF-BD15-DAA0303289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D3EC43-252F-4B52-864E-979B81D15E4A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C0E1814-1DCB-47DE-B2A4-8D2186ACB82D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01544B-08E7-4C59-AA0A-88F26D23C327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5DB5B8-9B0D-4BC8-BB0C-5EC5141E96FD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CBE07C-ED1F-4AE5-93F1-FD78C31AA143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0F6C47-7096-4A53-B82A-0AD5F7AD8837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BC8434-3588-4924-8694-5F6C421B87A9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6899F2-5DA8-40EF-BD24-E0C009500103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E7FA7C-9710-43CA-A077-DA30896A0CD2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1EA015-6949-4715-B20A-8EA11ED4AB9D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315354-2FF1-417B-8F72-D6D49A06A1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98F112-1E8B-4D44-A014-F91A6E40A0D3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9E8195-D803-4AE1-8F4B-CDE0F3D9B220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A37502-2E4B-40E5-93E7-A2331293C964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FF5C48-3ED7-4E56-BB48-F2BADC28B23A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91FDD77-68C0-4C5B-A49B-E8DF4CEE4C5D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FB4F12D-7D61-4531-8F67-D30088B1DA6B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2AA2A1A-7D04-44A6-9480-0C97EE11B7C3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3F04CC1-A6F7-466A-977C-9151C29FD1C4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4AD6F3E-6A1C-49CD-8E13-B1B903778DB1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64BD37C-3B75-41C8-B348-91226370D02B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A316F7C-9DCB-4E46-9ECF-2F47B093CBD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C207F6-CC50-4AF3-B441-344FF074FEAD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B2CE23A-E2FE-4641-9F9E-E7055A4B0D18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13E98BE-6EFC-431A-8ED2-7BE0B94B5AD3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9FF3E56-BCF4-4C5F-B1D9-14495E618474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3CE86C2-A7C2-4FED-8AC2-521AFB00B782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EE4081E-08CC-49E4-829E-9BEBBE8479E4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F2A0288-A253-4387-BD2D-EEDB7CCACED6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2896B1B-E726-47F0-8A2A-5CF5F7848F9D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FADEAA0-D9A9-4571-AB8B-DD6DE026CA3E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65B0439-9E22-42DE-8DD9-680C04A46224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89FEC77-0B2C-4862-A702-B998287D3A4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062BBC-9ACE-403A-8A01-A71E38D70411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6BB0AEE-6204-42F9-BE26-873504A262F2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5F907A6-EF2C-4E0A-940F-8CF44FBAF32B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191A40A-AA9B-4049-947B-A0D77339AD11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402BE8C-2A49-4946-8E03-19001B52DEAB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F2E35DC-CE95-4E3A-95FD-B1144ABD1123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6FE9BCF-47EC-40D3-8ED0-73ECEE7A6672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1498EAF-0CBC-4819-A2B3-2971157C52E1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15D2C0-19C2-4652-ADEB-1B92B684D201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E0869A-C920-4185-B8DB-78204667689E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A45924-CC71-4E97-9ADC-4FC8781CD5E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97AB90-B6EC-4159-981C-BB2679CDCAE1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433131-F335-48B6-9359-964C6EEAD354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C8358C-3F75-4086-87A8-301B7D0370B7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0055F2-E01C-4A54-82E1-776DEFFDA46C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1EC473-83AB-4A01-B443-11BB89576918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1EA7D6-8971-4C66-A7DE-73B835398276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D685C4-636B-454D-BE2F-22C86EAE674D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BC718A-34AF-49AC-A156-B7100806928C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1AC5B6-CF7A-4576-96EB-2989662D755F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44AC57-1312-435C-99C8-8E21A7F7B1B9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8894761-EA05-449C-BA1D-FD09E8C22F2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AE3BB7-6597-41C6-ACBB-7CFE2700C246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546B649-D4E8-4EDA-8934-30AE6624784A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B3E63D5-B5AF-49FB-86AD-C63237D34AE8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7850063-0284-4076-85ED-DEB6690D5AF6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6A858BA-FE28-4F6C-9DF3-4AE6445786AE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CEE1342-7827-4F58-9F63-E316079C9E2B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7C3D68C-F17D-481A-88CA-5CF42BEA0C99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5C4438D-A9C8-4157-AE98-45ACFB98C90B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1250C1D-9C51-466D-92D6-39A208A66D72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23BF0F2-9ACF-45FC-AE1E-8151189CCDE6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7AD7553-F996-4126-A6B4-4801825F491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F5E6D7-17E2-4EE4-9416-ADF8F8D65FC1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9BB2085-32DB-437F-8157-056741033D3E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48CDE03-3BB7-428B-90D9-D20B48194212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60842E5-34D8-4C75-A479-9DA6F1C1F3FB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BD30FB8-B4EB-474B-A089-DE950CE05D37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E42D3D6-14BD-4B63-BBDD-5CF9C4A73504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D57A5FA-0361-4292-AFC6-48AC16DA20DE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71506F6-63A2-4D1B-BEA6-68762F54C0B9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E8FB358-749B-49FF-8E17-BED69BEEC3B5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A001D25-A828-474E-9775-034794E43879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4993707-C696-4B07-B273-07C39727AF3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52D7BA-B7E5-460E-9A5B-61B892A00A74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3FC6008-0002-4269-B936-C9E15CD92F88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754C6AC-31DF-44DF-9BEA-1B4EBC5CD965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6BC18B6-2DB0-4AC6-BAD2-578CEF167127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B49588-6D47-44E7-9653-1D6D98D43811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7AAE2D-4956-4BF1-BD75-B7B4404181CB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69DB20-6C7C-4981-9E46-1E5637552CE0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4688CE-9D7F-47D4-85D6-9EA0D9DD8479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987468-6AB6-484D-9E69-6901FBC22954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CA3261-2B81-4CCE-957D-C63C3387A5C5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9FB739-030D-431C-B092-CCB7F511EA9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5AABC0-0A40-4DCA-BA1D-F701303478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45C001-42A7-4853-9168-1E5B7AE95179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5D70A7-FC94-4855-A21F-37A21AF90F95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95495F-6C10-4289-A8CD-684B90ECEA9E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30E4E4-DB9C-46CB-95C9-421E409709E3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6756DD-9E46-42EC-8DF7-6E29031656BB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7EFF77-A95E-490C-A817-3D027388B6C2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13E6B0A-D595-45BA-8B02-2E74933457A9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0905337-5B73-496D-BAAC-09DC807BF9F4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9F88854-48A5-41AA-8383-8A8DED26A8FB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5735204-26B8-434F-88CE-5545C1FE1101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95D926E-24C0-4E40-8BF9-0941EE330A6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23D3DA-8004-49C4-97C5-DCC560149E40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85181F5-A519-47C7-803D-EF2ECC20DC5F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53D7751-A907-468E-8E8C-FFCF414FA97D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F1632AB-E283-4D76-937C-729354CCB47C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C80B298-418C-4A52-8AEA-68DC46540D96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DEBEBFB-74E2-4399-884B-9468C8C44E88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2196307-A0B7-41FE-A0BC-E5E2F1B4C316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3EA5C4C-1D2E-46B8-ACBD-0A08874F3E5B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75FDD25-3724-412E-89E7-3518D9BC63C5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A6A9C7C-E1F2-482E-96C4-F802763D2323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BCFB85C-FC46-4F4E-AE12-5F3922E9461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1DAD7D-8A2F-4AA0-815B-31C6A69BE5E4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B7C2B03-E61A-47E5-ACB2-85EE70D41DBC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9678531-9DFC-4FE9-804F-3E005C83D953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0EC6E2A-0EB7-44A3-A010-B0D725A7D8FD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71B3634-7FF9-4411-9AD5-55EDEEE24978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3988A58-D3F5-4B1F-BE99-E4F7F2F3089C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6C5B41A-ED52-4892-8146-F5D38AAE2C65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A8EA872-C1CB-45A3-A4A6-E54DE0D68D63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B4FC41B-AFD8-4800-BC79-141BC8755E30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1C924B2-C005-4D31-A06C-AC56B360EC6E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056C7B-4535-45AD-A0AF-177FE6059ED2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06ADA9-6C88-4085-90E3-60576B59098A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9072EF-9288-433A-861A-551DF0D85DCD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F3358D-2F68-4537-AE53-18F1512CFA8F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77E87B-CAA8-483F-9D40-926284112149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343E54-32A8-4836-A65C-511B5733C257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07A461-BC2A-468B-87A6-B3EB6321E629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D6825C-CB5F-4DF1-8FB6-92242954364A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EE601F-B33F-4316-8BB6-DCF82036A64A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3F3569-E1A8-4E3A-A262-B0CA315F4CF5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2F0BD0-EB01-41BB-8DA8-67013029E231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881BB-35AA-48DF-8893-62EFD5BCF1F6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DF3D25-DC63-4C2F-BC76-7CF9807B7CCB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8FA86B-62F3-4310-9094-167B0DDB2C17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F78E97-8E45-49F6-972F-F21457270A54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768F579-AA4F-43A0-921D-E49907FBAB05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8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627AC64-7209-48A5-A66B-9E3C0CA74C5F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C009464-0609-448F-AC7B-A89C73931A88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2895C37-6D40-4DC3-89EC-A5440521DF97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F86B954-88F1-4274-BAFD-22FAE9127B78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B9B592B-6D08-462D-8FAB-610940FB4630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62CF5A6-175F-4D5C-BF27-5264565AFCD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AB8AF-58CE-4B51-AC2D-851DA204F48A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D839C6F-A57B-41F2-98FC-9F90EF8034CD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8CE5477-4CC4-4F05-9DC8-B54B570E66D3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DDE8801-1044-4A95-A42C-AF640FC50121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997C95C-BBD7-4641-BB92-0BCA22B480F2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AA5E9A0-2EBC-49BF-8BD4-C8CDC5A0DE28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575533D2-E907-4AD1-A679-2B81D98DC853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8F481D77-E61F-40E1-9134-80E30702DE10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0C99F99D-91D8-41CF-AFB3-5F405687A63F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E6FF4A35-2C3A-45A4-89DB-CF0878309AD2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F4608DDF-C8D1-4918-9748-E818FFFA34D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4098B-E2BD-4A5B-AC74-9770121F9A99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1E866997-8D5C-44E2-9A73-832F01C8A044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C0C6DA12-C9D7-4D61-BE10-A72549B62404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343E35B0-71F8-4006-9567-BDE5E30F4654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01BC46BE-5F68-4BC7-B83D-6AD8E8A30120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195E1AEB-558D-4B7F-8057-8CCEF1336B1A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F7089BDB-B6B6-4774-90D4-4D5237F4E4CF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32AACDBE-10BB-4658-9C41-829223C5FA87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8717DDB-1F0D-4516-B036-6E4D429A8FEE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FB8F75C-4734-4E10-8622-584F53CDC3AF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6562967-C899-48B9-9D1C-32874F5CEF9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D8323-B33F-41F4-B1C5-BCE3DF88BAE2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F5543D3-77B9-4846-BBC2-EF326EB6BC82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139EA4A-6F28-42C6-BD1F-6DED14C7AAF7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27FD587-A212-47BA-B064-180056DA41AA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4772EFC-B21C-45A7-9274-43687EDB13AC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44738ED-9DB1-4115-B601-7FB19C7BB8AF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26C7006-B13B-4F8C-B049-018D1734CF7F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DBB5DEC-8CF6-421B-86B7-B5EE844F74DF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D9D4045-266F-4EF5-A535-7E4ADC0F432B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52518D4-C109-4B0C-949A-14C73089AAD1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553E5540-A82D-427B-A57A-2A7FFDDB752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53152-AAF5-4A5E-8760-F827BB357D34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02B3C4EB-AD2F-4966-B3F4-BBB2EFCBA620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1DE07E17-A37F-4790-BE72-EDD236C04F37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58F3D13B-7ACA-4CF2-8D7D-68B3E90E7278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E5F67C35-9EB8-4EFF-9B24-F041B0EFC479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EB5CB8B7-5975-4E70-ABE9-20D8D6FC6EEB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8F50E37B-16CA-4D89-A64D-CA0CBF8475A1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6004FFBA-2A78-42DB-B8A4-51660D34CB64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D8FE47E1-8B16-4823-A7DC-C6452C8789C9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92665347-99B2-467A-B15E-601D5B48CC33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CCAC592B-B8EB-4861-9248-D00820060E1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CAA54A-4169-46D2-B1FB-4A3A5A29752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CF6D4-CA00-45AF-84DA-DDA50E02FB75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90F4101C-51BA-483E-896B-6680FF9B1C4E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DDCDC357-EFAA-456B-9F2E-9FB49857C916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8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922AFF31-EAAC-4B05-B14D-0801B9D160BB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9CB71EA9-5BCC-4D5E-B540-10C43DD15C86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66C16176-EE00-4BB5-9C89-7303CCD3AAB0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E7F35EC4-8875-41B8-BD6A-B81F58DD0AD1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B3FF597A-40B0-40C3-890A-36A8F272BA3F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70986375-ECF1-4FBE-8292-632BE572CA7E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77B09B6B-BFC6-42CD-921D-14CA330B4AD7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676A711E-7A50-44F9-83AE-C9A9F21DEBE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28407-C083-4196-A0F8-39617A9CE68A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205DA472-A2DF-429F-A071-68301AD457F1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1C8D35B1-2A7A-4C05-86A0-327F395A3016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784249C5-3127-4EDB-98B5-F09F35E202FE}" type="slidenum">
              <a:t>&lt;#&gt;</a:t>
            </a:fld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1A722D9-D87C-4489-8B14-8D34AE80D143}" type="slidenum">
              <a:t>&lt;#&gt;</a:t>
            </a:fld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3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FF5D109-65F4-46D5-8F18-3B566FE04E4F}" type="slidenum">
              <a:t>&lt;#&gt;</a:t>
            </a:fld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E648F74-A1D4-4EC3-A39A-B867D96FE6C7}" type="slidenum">
              <a:t>&lt;#&gt;</a:t>
            </a:fld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F11D42D-D0DC-442B-A063-3D2AE0C5E187}" type="slidenum">
              <a:t>&lt;#&gt;</a:t>
            </a:fld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5428951-1A3F-4889-B10F-35DCEEF99199}" type="slidenum">
              <a:t>&lt;#&gt;</a:t>
            </a:fld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6430942-23BD-4401-8679-838BF12419D9}" type="slidenum">
              <a:t>&lt;#&gt;</a:t>
            </a:fld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9EA752B-4415-4540-A05B-E0D6F347C92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BFD2C-4551-4F33-8E08-E81656822ACE}" type="slidenum">
              <a:t>&lt;#&gt;</a:t>
            </a:fld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F3F7789-9358-4895-AC86-4E7AA3988E4E}" type="slidenum">
              <a:t>&lt;#&gt;</a:t>
            </a:fld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979F7FE-5DF4-46CC-883D-7D87A84CC6CE}" type="slidenum">
              <a:t>&lt;#&gt;</a:t>
            </a:fld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56BBA30-2011-435A-A5CE-0404CD05ABC3}" type="slidenum">
              <a:t>&lt;#&gt;</a:t>
            </a:fld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6EE3198-293F-422C-8395-83C51C186A5F}" type="slidenum">
              <a:t>&lt;#&gt;</a:t>
            </a:fld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7E5F64C-6A26-46DB-9FBD-E7673DC791EA}" type="slidenum">
              <a:t>&lt;#&gt;</a:t>
            </a:fld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023021CF-30B0-4531-9999-6E8AFC9DD83F}" type="slidenum">
              <a:t>&lt;#&gt;</a:t>
            </a:fld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8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0865E40A-D813-4A46-B18B-AFCD0A715C44}" type="slidenum">
              <a:t>&lt;#&gt;</a:t>
            </a:fld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C89645C9-CED2-4E46-BF29-54B50755FCC1}" type="slidenum">
              <a:t>&lt;#&gt;</a:t>
            </a:fld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7ED647C7-5822-4C0B-9197-D3058708B978}" type="slidenum">
              <a:t>&lt;#&gt;</a:t>
            </a:fld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140B6BEB-7E07-437F-8F7A-666D3B5F941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B3EE0-8778-45BB-925F-E99627AC3076}" type="slidenum">
              <a:t>&lt;#&gt;</a:t>
            </a:fld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D57D096F-EB79-46EC-A5BE-528302CF8A82}" type="slidenum">
              <a:t>&lt;#&gt;</a:t>
            </a:fld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8DF193A7-EF08-46A1-A596-2FE5CEF4CB5A}" type="slidenum">
              <a:t>&lt;#&gt;</a:t>
            </a:fld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DD4879A6-BBF6-4A8D-80A9-D64B4CBE0D6E}" type="slidenum">
              <a:t>&lt;#&gt;</a:t>
            </a:fld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F1D9DCED-D89C-425B-ABE8-82B8E7A9C6E0}" type="slidenum">
              <a:t>&lt;#&gt;</a:t>
            </a:fld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38370F1E-BAF1-4F11-8035-8D35C78075C2}" type="slidenum">
              <a:t>&lt;#&gt;</a:t>
            </a:fld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4118BA57-809E-4225-9651-0884C3940CD2}" type="slidenum">
              <a:t>&lt;#&gt;</a:t>
            </a:fld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00E6864C-FE06-4FC0-A394-0E172A84A354}" type="slidenum">
              <a:t>&lt;#&gt;</a:t>
            </a:fld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3A5C67CB-CFE2-44AE-A028-5DFBB742CC46}" type="slidenum">
              <a:t>&lt;#&gt;</a:t>
            </a:fld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3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BEBA1111-E614-490E-9ADC-51A1E9942A18}" type="slidenum">
              <a:t>&lt;#&gt;</a:t>
            </a:fld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1DA21B8F-B887-45C4-A07B-6DC9F9A059A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1463A-87CF-4581-A92A-3A0CCF8A922C}" type="slidenum">
              <a:t>&lt;#&gt;</a:t>
            </a:fld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8478648B-00DA-4BB9-8DE3-A2F5570C6C68}" type="slidenum">
              <a:t>&lt;#&gt;</a:t>
            </a:fld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B4B54953-86BD-41CD-9664-44873A43223A}" type="slidenum">
              <a:t>&lt;#&gt;</a:t>
            </a:fld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0FBF3DF1-7053-401C-8F1D-87AD57BBCEB4}" type="slidenum">
              <a:t>&lt;#&gt;</a:t>
            </a:fld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0141158C-BB99-4239-954A-64EFC94FC2D4}" type="slidenum">
              <a:t>&lt;#&gt;</a:t>
            </a:fld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E924380F-56F8-4354-9FE0-80E22E6A2B1F}" type="slidenum">
              <a:t>&lt;#&gt;</a:t>
            </a:fld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B7DC1E2C-7DC3-45F3-9750-D9A79A1C53AC}" type="slidenum">
              <a:t>&lt;#&gt;</a:t>
            </a:fld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DE5D6E4B-2AFE-49A1-980A-9FA2E6AB7FAE}" type="slidenum">
              <a:t>&lt;#&gt;</a:t>
            </a:fld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3FE55E1F-F28F-48E6-ADB1-531A1E2F99CF}" type="slidenum">
              <a:t>&lt;#&gt;</a:t>
            </a:fld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7C1C28B3-9E63-401D-B3C0-881BD58AC60B}" type="slidenum">
              <a:t>&lt;#&gt;</a:t>
            </a:fld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B048A6E-E564-4F0C-BF5D-F51A4C203C8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A373B-C5A6-4EED-A345-1821731A3F41}" type="slidenum">
              <a:t>&lt;#&gt;</a:t>
            </a:fld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8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99D9099-1435-4281-9CA9-E2B8864DB30E}" type="slidenum">
              <a:t>&lt;#&gt;</a:t>
            </a:fld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122C17C-9E08-40B5-8067-2C2B101CB8D2}" type="slidenum">
              <a:t>&lt;#&gt;</a:t>
            </a:fld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A6C400C-4682-4FCB-B03E-9B691050274A}" type="slidenum">
              <a:t>&lt;#&gt;</a:t>
            </a:fld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B9A9EFD-0667-4CEC-BA67-3664338A0615}" type="slidenum">
              <a:t>&lt;#&gt;</a:t>
            </a:fld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8B79C98-F512-4DFC-97C4-BD143D8497E6}" type="slidenum">
              <a:t>&lt;#&gt;</a:t>
            </a:fld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6B51743-967D-40E3-88C5-B7D06E7FA073}" type="slidenum">
              <a:t>&lt;#&gt;</a:t>
            </a:fld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4515025-AE53-4378-B512-BD6E18A2EB4C}" type="slidenum">
              <a:t>&lt;#&gt;</a:t>
            </a:fld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2D04DBB-C473-4F92-AEFB-723BF6B35DDF}" type="slidenum">
              <a:t>&lt;#&gt;</a:t>
            </a:fld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0FE5C6C-9ABD-4D24-9827-4A5272A18BFE}" type="slidenum">
              <a:t>&lt;#&gt;</a:t>
            </a:fld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8BC198C-428F-4CD1-9E71-46E69EF80CB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9ECFD-4AE8-4D05-B67D-0E204FBBFDC8}" type="slidenum">
              <a:t>&lt;#&gt;</a:t>
            </a:fld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2FDE3D3-5B49-4DFB-B10F-7D74228424AA}" type="slidenum">
              <a:t>&lt;#&gt;</a:t>
            </a:fld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805B4DAC-E9B6-4861-A1EA-0657C0E48354}" type="slidenum">
              <a:t>&lt;#&gt;</a:t>
            </a:fld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3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228A4EBA-682D-44E7-8B82-6A77D6F32EB1}" type="slidenum">
              <a:t>&lt;#&gt;</a:t>
            </a:fld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45FDA007-1AD0-4C9C-B275-54521D268FB7}" type="slidenum">
              <a:t>&lt;#&gt;</a:t>
            </a:fld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8836F341-40A3-4D45-A0CC-30CC90269485}" type="slidenum">
              <a:t>&lt;#&gt;</a:t>
            </a:fld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9324A866-37A2-4F19-9CC5-A4CA13DA4ED9}" type="slidenum">
              <a:t>&lt;#&gt;</a:t>
            </a:fld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42E23D6D-264C-4E93-9FE6-773ED2AE7F56}" type="slidenum">
              <a:t>&lt;#&gt;</a:t>
            </a:fld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6F81F150-A7C4-48D8-A70C-7DC97335038E}" type="slidenum">
              <a:t>&lt;#&gt;</a:t>
            </a:fld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9CD66BAD-7B44-4330-AAFD-CFB5E1116F65}" type="slidenum">
              <a:t>&lt;#&gt;</a:t>
            </a:fld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CC15ABF1-D821-4754-9982-5FEE4FD922E8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2D6C2D5-E9B8-4D53-B403-10591060B915}" type="slidenum">
              <a:t>&lt;#&gt;</a:t>
            </a:fld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6D8CB2AA-166A-4C9D-81AC-DD4E811A6E67}" type="slidenum">
              <a:t>&lt;#&gt;</a:t>
            </a:fld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CCCC44BA-20C8-4073-B8C3-2727ECD70F81}" type="slidenum">
              <a:t>&lt;#&gt;</a:t>
            </a:fld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64ADA001-6BA0-4F68-AFE2-DE06C5CF7F81}" type="slidenum">
              <a:t>&lt;#&gt;</a:t>
            </a:fld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36F8F172-AA36-4C3E-8252-1B7E67FA8F84}" type="slidenum">
              <a:t>&lt;#&gt;</a:t>
            </a:fld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8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DBE3171C-9483-45F2-A5EC-34C6267F2622}" type="slidenum">
              <a:t>&lt;#&gt;</a:t>
            </a:fld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F6D2BF8B-766E-4A73-BA6E-F1039FD2471D}" type="slidenum">
              <a:t>&lt;#&gt;</a:t>
            </a:fld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0076D798-10B4-4AD3-A219-EEBC7425AE77}" type="slidenum">
              <a:t>&lt;#&gt;</a:t>
            </a:fld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96F9F318-3831-40A3-8DD8-E755476A757F}" type="slidenum">
              <a:t>&lt;#&gt;</a:t>
            </a:fld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F980AF57-B389-42DD-A08E-9232F1840228}" type="slidenum">
              <a:t>&lt;#&gt;</a:t>
            </a:fld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E9080AE1-B63D-4D43-A4CC-AC62D0867A7F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0114C6B-4343-4371-8FE3-D2F7BC6BF8B4}" type="slidenum">
              <a:t>&lt;#&gt;</a:t>
            </a:fld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F18A084B-B86E-4C9D-9A4A-25EB4C95CBEE}" type="slidenum">
              <a:t>&lt;#&gt;</a:t>
            </a:fld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231EB318-3A4B-487C-93E4-82D3B4B27109}" type="slidenum">
              <a:t>&lt;#&gt;</a:t>
            </a:fld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B3921493-A9ED-4981-A0DE-B46471EEC695}" type="slidenum">
              <a:t>&lt;#&gt;</a:t>
            </a:fld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F2A4A892-3ABF-4BBC-A27B-11C8CE83738C}" type="slidenum">
              <a:t>&lt;#&gt;</a:t>
            </a:fld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77447F2D-E514-4F55-B460-6AA3AFDC7F0F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03C4F4F-D407-42FE-A462-B75B946F8A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C45759-E68E-4FD1-8C1C-1DE85F984912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839BFE5-F253-4A0E-B795-44D24E355AC1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6A53021-D260-4461-A031-510911CCCF7F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6EF1D64-A919-453D-A8D3-06D13964140D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EC6ED03-7994-4381-A071-10F3D4EEB505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54C092A-CCF5-4989-AA7D-23F54BB75E0B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D8FB60A-4C7A-4C3B-BF4B-92391061DABF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E864B2B-B796-49A3-9A6F-37AFBF4146C6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4D73EB3-E12A-47CE-B185-8AED966FC2A4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DD1950F-B122-4570-BCD6-23B996C0A4DF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14AF3D-BC36-4027-BAD7-E1A913D7E6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937CC7-33A8-4DF5-BA87-60A9CB134AE4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BCB873-5A07-4A35-B347-CDD95C99E3D9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EA16C0-11D8-49BF-B64A-749485973F3C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205397-A60B-473A-B08D-9AAE3E9ABC1B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A5412F-6666-4C86-965C-FD3083422DCB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34E883-0322-4B49-BA14-A4615D54A732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1F4418-14DA-497C-97A9-1D25B31B6636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A0BE25-702C-4450-A89E-BC6ABA2ED9F2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A157D0-2BA3-46A9-8D53-618B68BDAF5E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CF19C5-763B-4297-8A25-B25CDC8E8CC7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4C8B29-C58D-4FD4-AD6C-BD7D45CF3C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6C0DA9-82A8-4692-A5AC-75F3F0A25F2D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C40932-B4D6-4483-912C-734ED26D3510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70AB99C-464B-478F-858F-0A941057D6D8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9EE6B16-14F3-45B0-81F6-4291B6459A1B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7E1CFA0-0B4B-4D0A-BAC6-C8EC716F32F4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39BB0F9-4460-4BB4-86CC-6FC3B57A382C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E1FD4E9-2FF4-455E-AC0A-0B4E70A79F3B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55CE873-5319-4DE0-8CFA-B7FB6FB3F923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5D71DBC-08D8-4FE9-8D5F-153EF790F61E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0118D5E-DAA5-44F4-9A01-9169613886CF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49C822A-FD9C-46B6-865C-6CA938F2F8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69A2FA-6A20-4CCE-8867-ADCEAAF0C905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0CE5169-3E1D-4FAD-8565-60A4EC61A47C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968A501-456C-42F9-BA2F-B9231D374117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09FA01A-B33C-4CB7-80E1-D15B79F1AB26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0E17ED-8565-4239-B6CD-56D74142C08B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242EBE-AD57-4B3B-8536-AB6FC5C11B88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ABFF07-4450-4953-9F93-65B391A4D4C8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91177D-C204-41AE-8ADA-121947C816EE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1E7CCD-1A43-4451-AF9C-AD7C667931ED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3CB20F-7DBC-4628-BD11-5300B5C57A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D41120-0EB1-45D4-AFD4-4A96B53D027E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A4F956-D246-4897-9E4C-3CB88C0D749F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E7DA0A-2D25-442E-A72E-7DDF30A9A398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2453F9-A17F-4D8E-9D9A-BDDBE0704CD6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538B01-5B80-4BAD-9C12-F6A13D990714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8F2DC5-F01D-4A58-8011-931B7D99BDD3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325E86-7FFA-4664-80F9-2E4BADDCA91F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C98E70-034D-41CB-A221-8B803B156829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50998EB-5E35-4274-9254-A59204CECBEB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C51162B-2107-48FA-AE82-FDAC2F9BCA01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093C472-0C70-4A31-9626-60CE46FB8D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229.xml"/><Relationship Id="rId7" Type="http://schemas.openxmlformats.org/officeDocument/2006/relationships/slideLayout" Target="../slideLayouts/slideLayout230.xml"/><Relationship Id="rId8" Type="http://schemas.openxmlformats.org/officeDocument/2006/relationships/slideLayout" Target="../slideLayouts/slideLayout231.xml"/><Relationship Id="rId9" Type="http://schemas.openxmlformats.org/officeDocument/2006/relationships/slideLayout" Target="../slideLayouts/slideLayout232.xml"/><Relationship Id="rId10" Type="http://schemas.openxmlformats.org/officeDocument/2006/relationships/slideLayout" Target="../slideLayouts/slideLayout233.xml"/><Relationship Id="rId11" Type="http://schemas.openxmlformats.org/officeDocument/2006/relationships/slideLayout" Target="../slideLayouts/slideLayout234.xml"/><Relationship Id="rId12" Type="http://schemas.openxmlformats.org/officeDocument/2006/relationships/slideLayout" Target="../slideLayouts/slideLayout235.xml"/><Relationship Id="rId13" Type="http://schemas.openxmlformats.org/officeDocument/2006/relationships/slideLayout" Target="../slideLayouts/slideLayout236.xml"/><Relationship Id="rId14" Type="http://schemas.openxmlformats.org/officeDocument/2006/relationships/slideLayout" Target="../slideLayouts/slideLayout237.xml"/><Relationship Id="rId15" Type="http://schemas.openxmlformats.org/officeDocument/2006/relationships/slideLayout" Target="../slideLayouts/slideLayout238.xml"/><Relationship Id="rId16" Type="http://schemas.openxmlformats.org/officeDocument/2006/relationships/slideLayout" Target="../slideLayouts/slideLayout239.xml"/><Relationship Id="rId17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slideLayout" Target="../slideLayouts/slideLayout373.xml"/><Relationship Id="rId3" Type="http://schemas.openxmlformats.org/officeDocument/2006/relationships/slideLayout" Target="../slideLayouts/slideLayout374.xml"/><Relationship Id="rId4" Type="http://schemas.openxmlformats.org/officeDocument/2006/relationships/slideLayout" Target="../slideLayouts/slideLayout375.xml"/><Relationship Id="rId5" Type="http://schemas.openxmlformats.org/officeDocument/2006/relationships/slideLayout" Target="../slideLayouts/slideLayout376.xml"/><Relationship Id="rId6" Type="http://schemas.openxmlformats.org/officeDocument/2006/relationships/slideLayout" Target="../slideLayouts/slideLayout377.xml"/><Relationship Id="rId7" Type="http://schemas.openxmlformats.org/officeDocument/2006/relationships/slideLayout" Target="../slideLayouts/slideLayout378.xml"/><Relationship Id="rId8" Type="http://schemas.openxmlformats.org/officeDocument/2006/relationships/slideLayout" Target="../slideLayouts/slideLayout379.xml"/><Relationship Id="rId9" Type="http://schemas.openxmlformats.org/officeDocument/2006/relationships/slideLayout" Target="../slideLayouts/slideLayout380.xml"/><Relationship Id="rId10" Type="http://schemas.openxmlformats.org/officeDocument/2006/relationships/slideLayout" Target="../slideLayouts/slideLayout381.xml"/><Relationship Id="rId11" Type="http://schemas.openxmlformats.org/officeDocument/2006/relationships/slideLayout" Target="../slideLayouts/slideLayout382.xml"/><Relationship Id="rId12" Type="http://schemas.openxmlformats.org/officeDocument/2006/relationships/slideLayout" Target="../slideLayouts/slideLayout383.xml"/><Relationship Id="rId13" Type="http://schemas.openxmlformats.org/officeDocument/2006/relationships/slideLayout" Target="../slideLayouts/slideLayout384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309000"/>
            <a:ext cx="5257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6C091-8ADC-4C54-9BCA-C6A9EB505D5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46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 type="ftr" idx="15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 type="sldNum" idx="16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4F23E-7B49-4D72-B22E-44CB3DE4832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51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 type="ftr" idx="17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 type="sldNum" idx="18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F1AA1-0E1E-4A42-B67A-D1B9EAA4CE6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56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 type="ftr" idx="19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 type="sldNum" idx="20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B3DA7-E689-4347-8FF0-020334DFF58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61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 type="ftr" idx="21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 type="sldNum" idx="22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862A5-C8BE-4EAB-88FB-7F9BF30E191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66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 type="ftr" idx="23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 type="sldNum" idx="24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EE3AD-1487-4FAC-B3C9-E8AEC6EC04E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71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 type="ftr" idx="25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 type="sldNum" idx="26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D2311-63E7-4DA4-95F3-0BBF6F289E5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76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 type="ftr" idx="27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 type="sldNum" idx="28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BF6D4-83FC-4AEF-BC7C-1400BDCE539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81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ftr" idx="29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sldNum" idx="30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53E4F-964B-4F30-BA71-9D47C75E8BF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86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 type="ftr" idx="31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4"/>
          <p:cNvSpPr>
            <a:spLocks noGrp="1"/>
          </p:cNvSpPr>
          <p:nvPr>
            <p:ph type="sldNum" idx="32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A0AC2-CDA4-4E90-9FFF-4F4B3DF761F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91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 type="ftr" idx="33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 type="sldNum" idx="34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93703-BD20-4B27-B090-07D82930BDD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ftr" idx="3"/>
          </p:nvPr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ldNum" idx="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B530F-F56C-4D3C-99D7-3BCE925EC42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5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63" name="Rectangle 16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Rectangle 17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5" name="Group 18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966" name="Rectangle 19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7" name="Rectangle 20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8" name="Rectangle 21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Rectangle 22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0" name="Rectangle 23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1" name="Rectangle 24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2" name="Rectangle 25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Rectangle 26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Rectangle 27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Rectangle 28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976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977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978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979" name="Picture 26" descr="CLSI_WHO_Blue_CMYK1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6"/>
    <p:sldLayoutId id="2147483897" r:id="rId7"/>
    <p:sldLayoutId id="2147483898" r:id="rId8"/>
    <p:sldLayoutId id="2147483899" r:id="rId9"/>
    <p:sldLayoutId id="2147483900" r:id="rId10"/>
    <p:sldLayoutId id="2147483901" r:id="rId11"/>
    <p:sldLayoutId id="2147483902" r:id="rId12"/>
    <p:sldLayoutId id="2147483903" r:id="rId13"/>
    <p:sldLayoutId id="2147483904" r:id="rId14"/>
    <p:sldLayoutId id="2147483905" r:id="rId15"/>
    <p:sldLayoutId id="2147483906" r:id="rId16"/>
    <p:sldLayoutId id="2147483907" r:id="rId17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01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 type="ftr" idx="35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PlaceHolder 4"/>
          <p:cNvSpPr>
            <a:spLocks noGrp="1"/>
          </p:cNvSpPr>
          <p:nvPr>
            <p:ph type="sldNum" idx="36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5C5DF-84C6-4950-974C-B900824225B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06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0" name="PlaceHolder 3"/>
          <p:cNvSpPr>
            <a:spLocks noGrp="1"/>
          </p:cNvSpPr>
          <p:nvPr>
            <p:ph type="ftr" idx="37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PlaceHolder 4"/>
          <p:cNvSpPr>
            <a:spLocks noGrp="1"/>
          </p:cNvSpPr>
          <p:nvPr>
            <p:ph type="sldNum" idx="38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AE1C2-8962-4DD9-A1FB-EF9814B8B5B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11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2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0" name="PlaceHolder 3"/>
          <p:cNvSpPr>
            <a:spLocks noGrp="1"/>
          </p:cNvSpPr>
          <p:nvPr>
            <p:ph type="ftr" idx="39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PlaceHolder 4"/>
          <p:cNvSpPr>
            <a:spLocks noGrp="1"/>
          </p:cNvSpPr>
          <p:nvPr>
            <p:ph type="sldNum" idx="40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0E943-0223-4C28-9BA5-1177AF3E79D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16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 type="ftr" idx="41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 type="sldNum" idx="42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7D2F1-8EFE-4BCD-B3B0-0F71F8A0D0B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21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0" name="PlaceHolder 3"/>
          <p:cNvSpPr>
            <a:spLocks noGrp="1"/>
          </p:cNvSpPr>
          <p:nvPr>
            <p:ph type="ftr" idx="43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PlaceHolder 4"/>
          <p:cNvSpPr>
            <a:spLocks noGrp="1"/>
          </p:cNvSpPr>
          <p:nvPr>
            <p:ph type="sldNum" idx="44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3B748-BC54-4D66-B2B8-7C0B087FF7C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26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0" name="PlaceHolder 3"/>
          <p:cNvSpPr>
            <a:spLocks noGrp="1"/>
          </p:cNvSpPr>
          <p:nvPr>
            <p:ph type="ftr" idx="45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PlaceHolder 4"/>
          <p:cNvSpPr>
            <a:spLocks noGrp="1"/>
          </p:cNvSpPr>
          <p:nvPr>
            <p:ph type="sldNum" idx="46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90F01-E8CF-409D-A10C-8CB94052C71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31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2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0" name="PlaceHolder 3"/>
          <p:cNvSpPr>
            <a:spLocks noGrp="1"/>
          </p:cNvSpPr>
          <p:nvPr>
            <p:ph type="ftr" idx="47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PlaceHolder 4"/>
          <p:cNvSpPr>
            <a:spLocks noGrp="1"/>
          </p:cNvSpPr>
          <p:nvPr>
            <p:ph type="sldNum" idx="48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C259E-1458-4F46-AEB6-EAB7BD4EC88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36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7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0" name="PlaceHolder 3"/>
          <p:cNvSpPr>
            <a:spLocks noGrp="1"/>
          </p:cNvSpPr>
          <p:nvPr>
            <p:ph type="ftr" idx="49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PlaceHolder 4"/>
          <p:cNvSpPr>
            <a:spLocks noGrp="1"/>
          </p:cNvSpPr>
          <p:nvPr>
            <p:ph type="sldNum" idx="50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0B960-602E-4A1A-853B-12FC19E868D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41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2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0" name="PlaceHolder 3"/>
          <p:cNvSpPr>
            <a:spLocks noGrp="1"/>
          </p:cNvSpPr>
          <p:nvPr>
            <p:ph type="ftr" idx="51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PlaceHolder 4"/>
          <p:cNvSpPr>
            <a:spLocks noGrp="1"/>
          </p:cNvSpPr>
          <p:nvPr>
            <p:ph type="sldNum" idx="52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9DDF1-60D2-449A-B8FA-E3FA9A85CC9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ftr" idx="5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ldNum" idx="6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08A37-7B6C-4BBF-ADA1-D952CB96AB9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0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46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7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0" name="PlaceHolder 3"/>
          <p:cNvSpPr>
            <a:spLocks noGrp="1"/>
          </p:cNvSpPr>
          <p:nvPr>
            <p:ph type="ftr" idx="53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PlaceHolder 4"/>
          <p:cNvSpPr>
            <a:spLocks noGrp="1"/>
          </p:cNvSpPr>
          <p:nvPr>
            <p:ph type="sldNum" idx="54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2132B-CA62-4D9A-8F18-09382BBBEC3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51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2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0" name="PlaceHolder 3"/>
          <p:cNvSpPr>
            <a:spLocks noGrp="1"/>
          </p:cNvSpPr>
          <p:nvPr>
            <p:ph type="ftr" idx="55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PlaceHolder 4"/>
          <p:cNvSpPr>
            <a:spLocks noGrp="1"/>
          </p:cNvSpPr>
          <p:nvPr>
            <p:ph type="sldNum" idx="56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3963B-56AA-4FAA-91D3-AE837823B92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56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7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0" name="PlaceHolder 3"/>
          <p:cNvSpPr>
            <a:spLocks noGrp="1"/>
          </p:cNvSpPr>
          <p:nvPr>
            <p:ph type="ftr" idx="57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PlaceHolder 4"/>
          <p:cNvSpPr>
            <a:spLocks noGrp="1"/>
          </p:cNvSpPr>
          <p:nvPr>
            <p:ph type="sldNum" idx="58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CDE41-66D2-4F57-A65F-01D9C050EC8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2"/>
    <p:sldLayoutId id="2147484053" r:id="rId3"/>
    <p:sldLayoutId id="2147484054" r:id="rId4"/>
    <p:sldLayoutId id="2147484055" r:id="rId5"/>
    <p:sldLayoutId id="2147484056" r:id="rId6"/>
    <p:sldLayoutId id="2147484057" r:id="rId7"/>
    <p:sldLayoutId id="2147484058" r:id="rId8"/>
    <p:sldLayoutId id="2147484059" r:id="rId9"/>
    <p:sldLayoutId id="2147484060" r:id="rId10"/>
    <p:sldLayoutId id="2147484061" r:id="rId11"/>
    <p:sldLayoutId id="2147484062" r:id="rId12"/>
    <p:sldLayoutId id="2147484063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ftr" idx="7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ldNum" idx="8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3B4C0-C4CC-4564-ADF8-97579EDA14F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5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0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20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sldNum" idx="9"/>
          </p:nvPr>
        </p:nvSpPr>
        <p:spPr>
          <a:xfrm>
            <a:off x="5486400" y="6248520"/>
            <a:ext cx="3200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B8110-CA8E-47AE-A98A-28CAD94B91A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3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54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6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257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sldNum" idx="10"/>
          </p:nvPr>
        </p:nvSpPr>
        <p:spPr>
          <a:xfrm>
            <a:off x="5486400" y="6248520"/>
            <a:ext cx="3200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C1A79-40EE-41B3-A8C3-094F6FA3245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6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307" name="Rectangle 16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Rectangle 17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9" name="Group 18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310" name="Rectangle 19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Rectangle 20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Rectangle 21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Rectangle 22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Rectangle 23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Rectangle 24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Rectangle 25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Rectangle 26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Rectangle 27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Rectangle 28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320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26" descr="CLSI_WHO_Blue_CMYK1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6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ftr" idx="11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sldNum" idx="12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BFAC7-153E-4070-8819-A821CFDF25A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41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 type="ftr" idx="13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 type="sldNum" idx="14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5F285-4E5C-494C-A473-47E51D1DE2A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4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5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9F502-2ECE-4569-9632-175D0C3BCE1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6" name="PlaceHolder 1"/>
          <p:cNvSpPr>
            <a:spLocks noGrp="1"/>
          </p:cNvSpPr>
          <p:nvPr>
            <p:ph type="title"/>
          </p:nvPr>
        </p:nvSpPr>
        <p:spPr>
          <a:xfrm>
            <a:off x="3809520" y="1904760"/>
            <a:ext cx="4876920" cy="190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Quality Manual Structure and Contents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627" name="Picture 11" descr="HHS-Logo-blue"/>
          <p:cNvPicPr/>
          <p:nvPr/>
        </p:nvPicPr>
        <p:blipFill>
          <a:blip r:embed="rId1"/>
          <a:stretch/>
        </p:blipFill>
        <p:spPr>
          <a:xfrm>
            <a:off x="41148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628" name="Picture 7" descr="2BSLATH"/>
          <p:cNvPicPr/>
          <p:nvPr/>
        </p:nvPicPr>
        <p:blipFill>
          <a:blip r:embed="rId2"/>
          <a:stretch/>
        </p:blipFill>
        <p:spPr>
          <a:xfrm>
            <a:off x="4876920" y="6172200"/>
            <a:ext cx="761760" cy="549360"/>
          </a:xfrm>
          <a:prstGeom prst="rect">
            <a:avLst/>
          </a:prstGeom>
          <a:ln w="0">
            <a:noFill/>
          </a:ln>
        </p:spPr>
      </p:pic>
      <p:pic>
        <p:nvPicPr>
          <p:cNvPr id="1629" name="Picture 16" descr="WHO-EN-C-H"/>
          <p:cNvPicPr/>
          <p:nvPr/>
        </p:nvPicPr>
        <p:blipFill>
          <a:blip r:embed="rId3"/>
          <a:stretch/>
        </p:blipFill>
        <p:spPr>
          <a:xfrm>
            <a:off x="5715000" y="6172200"/>
            <a:ext cx="1828800" cy="560520"/>
          </a:xfrm>
          <a:prstGeom prst="rect">
            <a:avLst/>
          </a:prstGeom>
          <a:ln w="0">
            <a:noFill/>
          </a:ln>
        </p:spPr>
      </p:pic>
      <p:grpSp>
        <p:nvGrpSpPr>
          <p:cNvPr id="1630" name="Group 2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631" name="Rectangle 2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2" name="Rectangle 2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33" name="Group 2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634" name="Rectangle 2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5" name="Rectangle 2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6" name="Rectangle 2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7" name="Rectangle 2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8" name="Rectangle 3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9" name="Rectangle 3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0" name="Rectangle 3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1" name="Rectangle 3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2" name="Rectangle 3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3" name="Rectangle 3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644" name="Text Box 36"/>
          <p:cNvSpPr/>
          <p:nvPr/>
        </p:nvSpPr>
        <p:spPr>
          <a:xfrm>
            <a:off x="1882800" y="2328840"/>
            <a:ext cx="7184880" cy="168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Структура и содержание «Руководства по качеству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дополнительный материа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5" name="Picture 37" descr="CLSI_WHO_Blue_CMYK1"/>
          <p:cNvPicPr/>
          <p:nvPr/>
        </p:nvPicPr>
        <p:blipFill>
          <a:blip r:embed="rId4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7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8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3CEE2-4225-4EBF-BB1D-71B9841F573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9" name="PlaceHolder 1"/>
          <p:cNvSpPr>
            <a:spLocks noGrp="1"/>
          </p:cNvSpPr>
          <p:nvPr>
            <p:ph/>
          </p:nvPr>
        </p:nvSpPr>
        <p:spPr>
          <a:xfrm>
            <a:off x="837720" y="1295280"/>
            <a:ext cx="8001000" cy="491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должностные инструкции, включая требования к квалификаци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список сотрудников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графическая схема организации лаборатори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условия найма на работу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организация работы интернов и студентов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0" name="Rectangle 4"/>
          <p:cNvSpPr/>
          <p:nvPr/>
        </p:nvSpPr>
        <p:spPr>
          <a:xfrm>
            <a:off x="609480" y="532080"/>
            <a:ext cx="59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SimSun"/>
              </a:rPr>
              <a:t>4.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Персона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1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2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BE007-6ACF-48D7-B338-55463A7FDC8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3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153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SimSun"/>
              </a:rPr>
              <a:t>5.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Контроль документации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44" name="PlaceHolder 2"/>
          <p:cNvSpPr>
            <a:spLocks noGrp="1"/>
          </p:cNvSpPr>
          <p:nvPr>
            <p:ph/>
          </p:nvPr>
        </p:nvSpPr>
        <p:spPr>
          <a:xfrm>
            <a:off x="838080" y="1294920"/>
            <a:ext cx="746784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утверждение руководством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окончательная версия документов: проверка, печатание, подписи, распространен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поддержание конфиденциальност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хранение, архивирован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составление отчет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перечень справочных документов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SimSun"/>
              </a:rPr>
              <a:t>руководств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SimSun"/>
              </a:rPr>
              <a:t>книг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SimSun"/>
              </a:rPr>
              <a:t>стать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5" name="Rectangle 4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6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7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8B2CB-0566-427F-9374-7707760E3BB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8" name="PlaceHolder 1"/>
          <p:cNvSpPr>
            <a:spLocks noGrp="1"/>
          </p:cNvSpPr>
          <p:nvPr>
            <p:ph type="title"/>
          </p:nvPr>
        </p:nvSpPr>
        <p:spPr>
          <a:xfrm>
            <a:off x="380520" y="476280"/>
            <a:ext cx="861084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285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SimSun"/>
              </a:rPr>
              <a:t>6.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Помещения и окружающая среда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49" name="PlaceHolder 2"/>
          <p:cNvSpPr>
            <a:spLocks noGrp="1"/>
          </p:cNvSpPr>
          <p:nvPr>
            <p:ph/>
          </p:nvPr>
        </p:nvSpPr>
        <p:spPr>
          <a:xfrm>
            <a:off x="762120" y="1695240"/>
            <a:ext cx="8229600" cy="440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план помещений лаборатор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зоны ограниченного доступ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лабораторные знаки и указател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требования к окружающей среде в лаборатории (пространство, температура, водо- и электроснабжение, вентиляция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контроль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допустимые отклоне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0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1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93CF9-6E99-4370-B547-955131FEAE8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2" name="PlaceHolder 1"/>
          <p:cNvSpPr>
            <a:spLocks noGrp="1"/>
          </p:cNvSpPr>
          <p:nvPr>
            <p:ph type="title"/>
          </p:nvPr>
        </p:nvSpPr>
        <p:spPr>
          <a:xfrm>
            <a:off x="457200" y="469800"/>
            <a:ext cx="8229600" cy="158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SimSun"/>
              </a:rPr>
              <a:t>7.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Управление оборудованием, реагентами и расходными материалами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53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8153280" cy="40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укажите, что для каждого наименования оборудования должны быть задокументированные процедуры, обслуживание, контроль качеств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реагент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заявки и получен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проверк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хранен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расходные материалы – установите порядок управле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4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5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CB996-1BFC-4B0B-B1FA-8D80C4C86EF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6" name="PlaceHolder 1"/>
          <p:cNvSpPr>
            <a:spLocks noGrp="1"/>
          </p:cNvSpPr>
          <p:nvPr>
            <p:ph type="title"/>
          </p:nvPr>
        </p:nvSpPr>
        <p:spPr>
          <a:xfrm>
            <a:off x="609480" y="552240"/>
            <a:ext cx="64008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SimSun"/>
              </a:rPr>
              <a:t>8.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Безопасность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57" name="PlaceHolder 2"/>
          <p:cNvSpPr>
            <a:spLocks noGrp="1"/>
          </p:cNvSpPr>
          <p:nvPr>
            <p:ph/>
          </p:nvPr>
        </p:nvSpPr>
        <p:spPr>
          <a:xfrm>
            <a:off x="914040" y="137124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обращение с пробами и материалам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дезинфекц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инструкции по пожарной безопасност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инструкции по работе с опасными химическими веществам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удаление отходов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стерилизац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маркировка материалов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8" name="Rectangle 4"/>
          <p:cNvSpPr/>
          <p:nvPr/>
        </p:nvSpPr>
        <p:spPr>
          <a:xfrm>
            <a:off x="45720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0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58090-CBF5-4DE2-828C-8C24E717C51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PlaceHolder 1"/>
          <p:cNvSpPr>
            <a:spLocks noGrp="1"/>
          </p:cNvSpPr>
          <p:nvPr>
            <p:ph type="title"/>
          </p:nvPr>
        </p:nvSpPr>
        <p:spPr>
          <a:xfrm>
            <a:off x="609480" y="572760"/>
            <a:ext cx="7925040" cy="6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9</a:t>
            </a: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SimSun"/>
              </a:rPr>
              <a:t>.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Процедуры до исследован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62" name="PlaceHolder 2"/>
          <p:cNvSpPr>
            <a:spLocks noGrp="1"/>
          </p:cNvSpPr>
          <p:nvPr>
            <p:ph/>
          </p:nvPr>
        </p:nvSpPr>
        <p:spPr>
          <a:xfrm>
            <a:off x="947520" y="1482840"/>
            <a:ext cx="7738920" cy="430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используемое оборудова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подготовка пациентов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идентификация проб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приготовление аликвот и предварительная обработка проб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хране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транспортировк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3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4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F4985-2060-4536-94BB-95B998279B0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6" name="PlaceHolder 1"/>
          <p:cNvSpPr>
            <a:spLocks noGrp="1"/>
          </p:cNvSpPr>
          <p:nvPr>
            <p:ph type="title"/>
          </p:nvPr>
        </p:nvSpPr>
        <p:spPr>
          <a:xfrm>
            <a:off x="380880" y="552240"/>
            <a:ext cx="79250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SimSun"/>
              </a:rPr>
              <a:t>10.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Процедура исследован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67" name="PlaceHolder 2"/>
          <p:cNvSpPr>
            <a:spLocks noGrp="1"/>
          </p:cNvSpPr>
          <p:nvPr>
            <p:ph/>
          </p:nvPr>
        </p:nvSpPr>
        <p:spPr>
          <a:xfrm>
            <a:off x="871200" y="1816200"/>
            <a:ext cx="7815240" cy="344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используемое оборудова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используемые реагент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калибровка / контроль качеств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процедура анализ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методы валидации/проверк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8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9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2613D-81C0-4A8E-8AE6-6B49FE3B917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8686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SimSun"/>
              </a:rPr>
              <a:t>11.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Процедура после исследован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72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8077320" cy="484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анализ результатов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окончательная проверка биологических значений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распечатка/приготовление копии отчета с результатам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передача отчет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хранение (архивирование) отчет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взаимодействие с органами эпиднадзор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3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4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5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20955-5E99-4773-97AB-F365CF22FA1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6" name="PlaceHolder 1"/>
          <p:cNvSpPr>
            <a:spLocks noGrp="1"/>
          </p:cNvSpPr>
          <p:nvPr>
            <p:ph type="title"/>
          </p:nvPr>
        </p:nvSpPr>
        <p:spPr>
          <a:xfrm>
            <a:off x="533520" y="514080"/>
            <a:ext cx="64008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SimSun"/>
              </a:rPr>
              <a:t>12.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Контроль качества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77" name="PlaceHolder 2"/>
          <p:cNvSpPr>
            <a:spLocks noGrp="1"/>
          </p:cNvSpPr>
          <p:nvPr>
            <p:ph/>
          </p:nvPr>
        </p:nvSpPr>
        <p:spPr>
          <a:xfrm>
            <a:off x="609480" y="1272960"/>
            <a:ext cx="8229600" cy="512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напоминание о приверженности качеству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ссылка на процедуры контроля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оборудова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реактив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компетенций персонал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краткое изложение всех процедур контроля качества и ссылки на соответствующие разделы «Руководства по качеству»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8" name="Rectangle 4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9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0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9BDF6-11A2-4000-B89E-C9E93593788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305920" cy="175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953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SimSun"/>
              </a:rPr>
              <a:t>13.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Корректирующие и предупреждающие действия, внутренний аудит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82" name="PlaceHolder 2"/>
          <p:cNvSpPr>
            <a:spLocks noGrp="1"/>
          </p:cNvSpPr>
          <p:nvPr>
            <p:ph/>
          </p:nvPr>
        </p:nvSpPr>
        <p:spPr>
          <a:xfrm>
            <a:off x="1066680" y="2514600"/>
            <a:ext cx="7467840" cy="335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постоянное улучше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анализ и разбор всех проблем и ошибок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внутренние аудиты являются обязательными в соответствии со стандартом ИСО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SimSun"/>
              </a:rPr>
              <a:t>15189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3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6" name="Slide Number Placeholder 4"/>
          <p:cNvSpPr/>
          <p:nvPr/>
        </p:nvSpPr>
        <p:spPr>
          <a:xfrm>
            <a:off x="746748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76D4F-C3C3-4306-B14A-228A09BEFE9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7" name="Text Box 62"/>
          <p:cNvSpPr/>
          <p:nvPr/>
        </p:nvSpPr>
        <p:spPr>
          <a:xfrm>
            <a:off x="990720" y="41112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истема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8" name="Group 99"/>
          <p:cNvGrpSpPr/>
          <p:nvPr/>
        </p:nvGrpSpPr>
        <p:grpSpPr>
          <a:xfrm>
            <a:off x="1486080" y="1066680"/>
            <a:ext cx="6171840" cy="5181480"/>
            <a:chOff x="1486080" y="1066680"/>
            <a:chExt cx="6171840" cy="5181480"/>
          </a:xfrm>
        </p:grpSpPr>
        <p:sp>
          <p:nvSpPr>
            <p:cNvPr id="1649" name="AutoShape 4"/>
            <p:cNvSpPr/>
            <p:nvPr/>
          </p:nvSpPr>
          <p:spPr>
            <a:xfrm>
              <a:off x="1486080" y="1066680"/>
              <a:ext cx="6171840" cy="518148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0" name="Freeform 9"/>
            <p:cNvSpPr/>
            <p:nvPr/>
          </p:nvSpPr>
          <p:spPr>
            <a:xfrm>
              <a:off x="4159800" y="3794040"/>
              <a:ext cx="143640" cy="69840"/>
            </a:xfrm>
            <a:custGeom>
              <a:avLst/>
              <a:gdLst>
                <a:gd name="textAreaLeft" fmla="*/ 0 w 143640"/>
                <a:gd name="textAreaRight" fmla="*/ 144000 w 1436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1" name="Freeform 10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2" name="Freeform 11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3" name="Freeform 12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4" name="Freeform 13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5" name="Freeform 16"/>
            <p:cNvSpPr/>
            <p:nvPr/>
          </p:nvSpPr>
          <p:spPr>
            <a:xfrm>
              <a:off x="2533680" y="3179520"/>
              <a:ext cx="200160" cy="10944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6" name="Freeform 22"/>
            <p:cNvSpPr/>
            <p:nvPr/>
          </p:nvSpPr>
          <p:spPr>
            <a:xfrm>
              <a:off x="2520360" y="3119040"/>
              <a:ext cx="204120" cy="38160"/>
            </a:xfrm>
            <a:custGeom>
              <a:avLst/>
              <a:gdLst>
                <a:gd name="textAreaLeft" fmla="*/ 0 w 204120"/>
                <a:gd name="textAreaRight" fmla="*/ 204480 w 2041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7" name="Line 24"/>
            <p:cNvSpPr/>
            <p:nvPr/>
          </p:nvSpPr>
          <p:spPr>
            <a:xfrm flipH="1" flipV="1">
              <a:off x="4647600" y="5862240"/>
              <a:ext cx="12960" cy="446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8" name="Line 25"/>
            <p:cNvSpPr/>
            <p:nvPr/>
          </p:nvSpPr>
          <p:spPr>
            <a:xfrm flipV="1">
              <a:off x="4335480" y="4740120"/>
              <a:ext cx="1800" cy="1000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9" name="Line 27"/>
            <p:cNvSpPr/>
            <p:nvPr/>
          </p:nvSpPr>
          <p:spPr>
            <a:xfrm>
              <a:off x="6477840" y="1704600"/>
              <a:ext cx="1800" cy="39261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0" name="Line 27"/>
            <p:cNvSpPr/>
            <p:nvPr/>
          </p:nvSpPr>
          <p:spPr>
            <a:xfrm>
              <a:off x="4571640" y="1857240"/>
              <a:ext cx="180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1" name="Line 27"/>
            <p:cNvSpPr/>
            <p:nvPr/>
          </p:nvSpPr>
          <p:spPr>
            <a:xfrm>
              <a:off x="2575080" y="1904760"/>
              <a:ext cx="144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2" name="Line 27"/>
            <p:cNvSpPr/>
            <p:nvPr/>
          </p:nvSpPr>
          <p:spPr>
            <a:xfrm flipH="1">
              <a:off x="2211480" y="1750680"/>
              <a:ext cx="467604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63" name="Group 65"/>
            <p:cNvGrpSpPr/>
            <p:nvPr/>
          </p:nvGrpSpPr>
          <p:grpSpPr>
            <a:xfrm>
              <a:off x="1848600" y="1155600"/>
              <a:ext cx="1503000" cy="1139760"/>
              <a:chOff x="1848600" y="1155600"/>
              <a:chExt cx="1503000" cy="1139760"/>
            </a:xfrm>
          </p:grpSpPr>
          <p:grpSp>
            <p:nvGrpSpPr>
              <p:cNvPr id="1664" name="Group 66"/>
              <p:cNvGrpSpPr/>
              <p:nvPr/>
            </p:nvGrpSpPr>
            <p:grpSpPr>
              <a:xfrm>
                <a:off x="1848600" y="1155600"/>
                <a:ext cx="1475640" cy="1139760"/>
                <a:chOff x="1848600" y="1155600"/>
                <a:chExt cx="1475640" cy="1139760"/>
              </a:xfrm>
            </p:grpSpPr>
            <p:grpSp>
              <p:nvGrpSpPr>
                <p:cNvPr id="1665" name="Group 67"/>
                <p:cNvGrpSpPr/>
                <p:nvPr/>
              </p:nvGrpSpPr>
              <p:grpSpPr>
                <a:xfrm>
                  <a:off x="1909800" y="1155600"/>
                  <a:ext cx="1372320" cy="1139760"/>
                  <a:chOff x="1909800" y="1155600"/>
                  <a:chExt cx="1372320" cy="1139760"/>
                </a:xfrm>
              </p:grpSpPr>
              <p:sp>
                <p:nvSpPr>
                  <p:cNvPr id="1666" name="Freeform 68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7" name="Freeform 69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68" name="Text Box 70"/>
                <p:cNvSpPr/>
                <p:nvPr/>
              </p:nvSpPr>
              <p:spPr>
                <a:xfrm>
                  <a:off x="1848600" y="1418400"/>
                  <a:ext cx="1475640" cy="36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9" name="Text Box 71"/>
              <p:cNvSpPr/>
              <p:nvPr/>
            </p:nvSpPr>
            <p:spPr>
              <a:xfrm>
                <a:off x="1875600" y="1628640"/>
                <a:ext cx="1476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70" name="Group 72"/>
            <p:cNvGrpSpPr/>
            <p:nvPr/>
          </p:nvGrpSpPr>
          <p:grpSpPr>
            <a:xfrm>
              <a:off x="3821400" y="1155600"/>
              <a:ext cx="1476360" cy="1139760"/>
              <a:chOff x="3821400" y="1155600"/>
              <a:chExt cx="1476360" cy="1139760"/>
            </a:xfrm>
          </p:grpSpPr>
          <p:sp>
            <p:nvSpPr>
              <p:cNvPr id="1671" name="Freeform 73"/>
              <p:cNvSpPr/>
              <p:nvPr/>
            </p:nvSpPr>
            <p:spPr>
              <a:xfrm>
                <a:off x="3870000" y="1155600"/>
                <a:ext cx="1373400" cy="1139760"/>
              </a:xfrm>
              <a:custGeom>
                <a:avLst/>
                <a:gdLst>
                  <a:gd name="textAreaLeft" fmla="*/ 0 w 1373400"/>
                  <a:gd name="textAreaRight" fmla="*/ 1373760 w 137340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2" name="Text Box 74"/>
              <p:cNvSpPr/>
              <p:nvPr/>
            </p:nvSpPr>
            <p:spPr>
              <a:xfrm>
                <a:off x="3821400" y="162864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73" name="Group 75"/>
            <p:cNvGrpSpPr/>
            <p:nvPr/>
          </p:nvGrpSpPr>
          <p:grpSpPr>
            <a:xfrm>
              <a:off x="5727600" y="1155600"/>
              <a:ext cx="1476360" cy="1139760"/>
              <a:chOff x="5727600" y="1155600"/>
              <a:chExt cx="1476360" cy="1139760"/>
            </a:xfrm>
          </p:grpSpPr>
          <p:grpSp>
            <p:nvGrpSpPr>
              <p:cNvPr id="1674" name="Group 76"/>
              <p:cNvGrpSpPr/>
              <p:nvPr/>
            </p:nvGrpSpPr>
            <p:grpSpPr>
              <a:xfrm>
                <a:off x="5781600" y="1155600"/>
                <a:ext cx="1373040" cy="1139760"/>
                <a:chOff x="5781600" y="1155600"/>
                <a:chExt cx="1373040" cy="1139760"/>
              </a:xfrm>
            </p:grpSpPr>
            <p:sp>
              <p:nvSpPr>
                <p:cNvPr id="1675" name="Freeform 77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6" name="Freeform 78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77" name="Text Box 79"/>
              <p:cNvSpPr/>
              <p:nvPr/>
            </p:nvSpPr>
            <p:spPr>
              <a:xfrm>
                <a:off x="5727600" y="162936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78" name="Line 27"/>
            <p:cNvSpPr/>
            <p:nvPr/>
          </p:nvSpPr>
          <p:spPr>
            <a:xfrm flipH="1">
              <a:off x="2302560" y="30463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79" name="Group 130"/>
            <p:cNvGrpSpPr/>
            <p:nvPr/>
          </p:nvGrpSpPr>
          <p:grpSpPr>
            <a:xfrm>
              <a:off x="1848600" y="2438280"/>
              <a:ext cx="1382040" cy="1139760"/>
              <a:chOff x="1848600" y="2438280"/>
              <a:chExt cx="1382040" cy="1139760"/>
            </a:xfrm>
          </p:grpSpPr>
          <p:sp>
            <p:nvSpPr>
              <p:cNvPr id="1680" name="Freeform 46"/>
              <p:cNvSpPr/>
              <p:nvPr/>
            </p:nvSpPr>
            <p:spPr>
              <a:xfrm>
                <a:off x="1854000" y="2438280"/>
                <a:ext cx="1376640" cy="1139760"/>
              </a:xfrm>
              <a:custGeom>
                <a:avLst/>
                <a:gdLst>
                  <a:gd name="textAreaLeft" fmla="*/ 0 w 1376640"/>
                  <a:gd name="textAreaRight" fmla="*/ 1377000 w 137664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1" name="Text Box 47"/>
              <p:cNvSpPr/>
              <p:nvPr/>
            </p:nvSpPr>
            <p:spPr>
              <a:xfrm>
                <a:off x="1848600" y="2713320"/>
                <a:ext cx="13820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200"/>
                </a:b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82" name="Freeform 31"/>
            <p:cNvSpPr/>
            <p:nvPr/>
          </p:nvSpPr>
          <p:spPr>
            <a:xfrm>
              <a:off x="3879720" y="2498400"/>
              <a:ext cx="1373040" cy="1141560"/>
            </a:xfrm>
            <a:custGeom>
              <a:avLst/>
              <a:gdLst>
                <a:gd name="textAreaLeft" fmla="*/ 0 w 1373040"/>
                <a:gd name="textAreaRight" fmla="*/ 1373400 w 137304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3" name="Text Box 43"/>
            <p:cNvSpPr/>
            <p:nvPr/>
          </p:nvSpPr>
          <p:spPr>
            <a:xfrm>
              <a:off x="3885480" y="2815920"/>
              <a:ext cx="1368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4" name="Group 135"/>
            <p:cNvGrpSpPr/>
            <p:nvPr/>
          </p:nvGrpSpPr>
          <p:grpSpPr>
            <a:xfrm>
              <a:off x="5751720" y="2455560"/>
              <a:ext cx="1393200" cy="1139760"/>
              <a:chOff x="5751720" y="2455560"/>
              <a:chExt cx="1393200" cy="1139760"/>
            </a:xfrm>
          </p:grpSpPr>
          <p:sp>
            <p:nvSpPr>
              <p:cNvPr id="1685" name="Freeform 48"/>
              <p:cNvSpPr/>
              <p:nvPr/>
            </p:nvSpPr>
            <p:spPr>
              <a:xfrm>
                <a:off x="5751720" y="245556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6" name="Text Box 55"/>
              <p:cNvSpPr/>
              <p:nvPr/>
            </p:nvSpPr>
            <p:spPr>
              <a:xfrm>
                <a:off x="5759280" y="2818440"/>
                <a:ext cx="13856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87" name="Line 27"/>
            <p:cNvSpPr/>
            <p:nvPr/>
          </p:nvSpPr>
          <p:spPr>
            <a:xfrm flipH="1">
              <a:off x="2211480" y="426708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8" name="Group 139"/>
            <p:cNvGrpSpPr/>
            <p:nvPr/>
          </p:nvGrpSpPr>
          <p:grpSpPr>
            <a:xfrm>
              <a:off x="1848600" y="3740040"/>
              <a:ext cx="1434600" cy="1141200"/>
              <a:chOff x="1848600" y="3740040"/>
              <a:chExt cx="1434600" cy="1141200"/>
            </a:xfrm>
          </p:grpSpPr>
          <p:sp>
            <p:nvSpPr>
              <p:cNvPr id="1689" name="Freeform 81"/>
              <p:cNvSpPr/>
              <p:nvPr/>
            </p:nvSpPr>
            <p:spPr>
              <a:xfrm>
                <a:off x="1886400" y="3740040"/>
                <a:ext cx="1373760" cy="1141200"/>
              </a:xfrm>
              <a:custGeom>
                <a:avLst/>
                <a:gdLst>
                  <a:gd name="textAreaLeft" fmla="*/ 0 w 1373760"/>
                  <a:gd name="textAreaRight" fmla="*/ 1373760 w 137376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0" name="Text Box 82"/>
              <p:cNvSpPr/>
              <p:nvPr/>
            </p:nvSpPr>
            <p:spPr>
              <a:xfrm>
                <a:off x="1848600" y="4039920"/>
                <a:ext cx="1434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91" name="Group 142"/>
            <p:cNvGrpSpPr/>
            <p:nvPr/>
          </p:nvGrpSpPr>
          <p:grpSpPr>
            <a:xfrm>
              <a:off x="3798720" y="3740040"/>
              <a:ext cx="1476360" cy="1141200"/>
              <a:chOff x="3798720" y="3740040"/>
              <a:chExt cx="1476360" cy="1141200"/>
            </a:xfrm>
          </p:grpSpPr>
          <p:sp>
            <p:nvSpPr>
              <p:cNvPr id="1692" name="Freeform 30"/>
              <p:cNvSpPr/>
              <p:nvPr/>
            </p:nvSpPr>
            <p:spPr>
              <a:xfrm>
                <a:off x="3853440" y="3740040"/>
                <a:ext cx="1374480" cy="114120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3" name="Text Box 54"/>
              <p:cNvSpPr/>
              <p:nvPr/>
            </p:nvSpPr>
            <p:spPr>
              <a:xfrm>
                <a:off x="3798720" y="396432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94" name="Freeform 50"/>
            <p:cNvSpPr/>
            <p:nvPr/>
          </p:nvSpPr>
          <p:spPr>
            <a:xfrm>
              <a:off x="5751720" y="3733560"/>
              <a:ext cx="1374480" cy="1141560"/>
            </a:xfrm>
            <a:custGeom>
              <a:avLst/>
              <a:gdLst>
                <a:gd name="textAreaLeft" fmla="*/ 0 w 1374480"/>
                <a:gd name="textAreaRight" fmla="*/ 1374840 w 137448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5" name="Text Box 51"/>
            <p:cNvSpPr/>
            <p:nvPr/>
          </p:nvSpPr>
          <p:spPr>
            <a:xfrm>
              <a:off x="5706360" y="4143240"/>
              <a:ext cx="14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6" name="Line 27"/>
            <p:cNvSpPr/>
            <p:nvPr/>
          </p:nvSpPr>
          <p:spPr>
            <a:xfrm flipH="1">
              <a:off x="2302560" y="55609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97" name="Group 148"/>
            <p:cNvGrpSpPr/>
            <p:nvPr/>
          </p:nvGrpSpPr>
          <p:grpSpPr>
            <a:xfrm>
              <a:off x="1879200" y="5032080"/>
              <a:ext cx="1472400" cy="1139760"/>
              <a:chOff x="1879200" y="5032080"/>
              <a:chExt cx="1472400" cy="1139760"/>
            </a:xfrm>
          </p:grpSpPr>
          <p:sp>
            <p:nvSpPr>
              <p:cNvPr id="1698" name="Freeform 57"/>
              <p:cNvSpPr/>
              <p:nvPr/>
            </p:nvSpPr>
            <p:spPr>
              <a:xfrm>
                <a:off x="1935720" y="5032080"/>
                <a:ext cx="1372680" cy="113976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9" name="Text Box 58"/>
              <p:cNvSpPr/>
              <p:nvPr/>
            </p:nvSpPr>
            <p:spPr>
              <a:xfrm>
                <a:off x="1879200" y="5333040"/>
                <a:ext cx="14724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00" name="Group 151"/>
            <p:cNvGrpSpPr/>
            <p:nvPr/>
          </p:nvGrpSpPr>
          <p:grpSpPr>
            <a:xfrm>
              <a:off x="3821400" y="4966920"/>
              <a:ext cx="1476360" cy="1140120"/>
              <a:chOff x="3821400" y="4966920"/>
              <a:chExt cx="1476360" cy="1140120"/>
            </a:xfrm>
          </p:grpSpPr>
          <p:sp>
            <p:nvSpPr>
              <p:cNvPr id="1701" name="Freeform 34"/>
              <p:cNvSpPr/>
              <p:nvPr/>
            </p:nvSpPr>
            <p:spPr>
              <a:xfrm>
                <a:off x="3879360" y="4966920"/>
                <a:ext cx="1372680" cy="114012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40120"/>
                  <a:gd name="textAreaBottom" fmla="*/ 1140480 h 11401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2" name="Text Box 61"/>
              <p:cNvSpPr/>
              <p:nvPr/>
            </p:nvSpPr>
            <p:spPr>
              <a:xfrm>
                <a:off x="3821400" y="5333040"/>
                <a:ext cx="14763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03" name="Group 154"/>
            <p:cNvGrpSpPr/>
            <p:nvPr/>
          </p:nvGrpSpPr>
          <p:grpSpPr>
            <a:xfrm>
              <a:off x="5759640" y="5032080"/>
              <a:ext cx="1476360" cy="1139760"/>
              <a:chOff x="5759640" y="5032080"/>
              <a:chExt cx="1476360" cy="1139760"/>
            </a:xfrm>
          </p:grpSpPr>
          <p:sp>
            <p:nvSpPr>
              <p:cNvPr id="1704" name="Freeform 63"/>
              <p:cNvSpPr/>
              <p:nvPr/>
            </p:nvSpPr>
            <p:spPr>
              <a:xfrm>
                <a:off x="5774400" y="503208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5" name="Text Box 64"/>
              <p:cNvSpPr/>
              <p:nvPr/>
            </p:nvSpPr>
            <p:spPr>
              <a:xfrm>
                <a:off x="5759640" y="523440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06" name="Footer Placeholder 1"/>
          <p:cNvSpPr/>
          <p:nvPr/>
        </p:nvSpPr>
        <p:spPr>
          <a:xfrm>
            <a:off x="457200" y="6400800"/>
            <a:ext cx="655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4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63B46-2DDC-41C3-AE56-96C8B4EB831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0773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труктура документац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40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«Руководство по качеству»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изложите руководящие принципы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цесс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цеду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абоч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инструк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Фор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Запис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7" name="Group 3"/>
          <p:cNvGrpSpPr/>
          <p:nvPr/>
        </p:nvGrpSpPr>
        <p:grpSpPr>
          <a:xfrm>
            <a:off x="5638680" y="2438280"/>
            <a:ext cx="3124440" cy="2935440"/>
            <a:chOff x="5638680" y="2438280"/>
            <a:chExt cx="3124440" cy="2935440"/>
          </a:xfrm>
        </p:grpSpPr>
        <p:pic>
          <p:nvPicPr>
            <p:cNvPr id="1788" name="Picture 4" descr="17_docs_structure"/>
            <p:cNvPicPr/>
            <p:nvPr/>
          </p:nvPicPr>
          <p:blipFill>
            <a:blip r:embed="rId1"/>
            <a:stretch/>
          </p:blipFill>
          <p:spPr>
            <a:xfrm>
              <a:off x="5638680" y="2438280"/>
              <a:ext cx="3124440" cy="293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9" name="TextBox 1"/>
            <p:cNvSpPr/>
            <p:nvPr/>
          </p:nvSpPr>
          <p:spPr>
            <a:xfrm>
              <a:off x="6095880" y="4572000"/>
              <a:ext cx="2057760" cy="646200"/>
            </a:xfrm>
            <a:prstGeom prst="rect">
              <a:avLst/>
            </a:prstGeom>
            <a:solidFill>
              <a:srgbClr val="181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Процедур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Рабочие инструкци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0" name="TextBox 2"/>
            <p:cNvSpPr/>
            <p:nvPr/>
          </p:nvSpPr>
          <p:spPr>
            <a:xfrm>
              <a:off x="6545160" y="3777840"/>
              <a:ext cx="1159200" cy="369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Процесс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1" name="TextBox 8"/>
            <p:cNvSpPr/>
            <p:nvPr/>
          </p:nvSpPr>
          <p:spPr>
            <a:xfrm>
              <a:off x="6840000" y="3023640"/>
              <a:ext cx="648000" cy="360000"/>
            </a:xfrm>
            <a:prstGeom prst="rect">
              <a:avLst/>
            </a:prstGeom>
            <a:solidFill>
              <a:srgbClr val="78fb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 Narrow"/>
                  <a:ea typeface="Calibri"/>
                </a:rPr>
                <a:t>водящие принципы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2" name="TextBox 8"/>
            <p:cNvSpPr/>
            <p:nvPr/>
          </p:nvSpPr>
          <p:spPr>
            <a:xfrm>
              <a:off x="6948000" y="2819160"/>
              <a:ext cx="396000" cy="180000"/>
            </a:xfrm>
            <a:prstGeom prst="rect">
              <a:avLst/>
            </a:prstGeom>
            <a:solidFill>
              <a:srgbClr val="78fb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 Narrow"/>
                  <a:ea typeface="Calibri"/>
                </a:rPr>
                <a:t>Руко-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3" name="Footer Placeholder 1"/>
          <p:cNvSpPr/>
          <p:nvPr/>
        </p:nvSpPr>
        <p:spPr>
          <a:xfrm>
            <a:off x="457200" y="6400800"/>
            <a:ext cx="52578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4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5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D82EC-00EB-41AF-8112-7DF2F658561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Управление документацией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797" name="Group 3"/>
          <p:cNvGrpSpPr/>
          <p:nvPr/>
        </p:nvGrpSpPr>
        <p:grpSpPr>
          <a:xfrm>
            <a:off x="4343400" y="4038480"/>
            <a:ext cx="3504960" cy="1981440"/>
            <a:chOff x="4343400" y="4038480"/>
            <a:chExt cx="3504960" cy="1981440"/>
          </a:xfrm>
        </p:grpSpPr>
        <p:sp>
          <p:nvSpPr>
            <p:cNvPr id="1798" name="Text Box 4"/>
            <p:cNvSpPr/>
            <p:nvPr/>
          </p:nvSpPr>
          <p:spPr>
            <a:xfrm>
              <a:off x="5099400" y="4159080"/>
              <a:ext cx="2064240" cy="48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SimSun"/>
                </a:rPr>
                <a:t>Управление качество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9" name="Oval 5"/>
            <p:cNvSpPr/>
            <p:nvPr/>
          </p:nvSpPr>
          <p:spPr>
            <a:xfrm>
              <a:off x="4343400" y="4038480"/>
              <a:ext cx="3504960" cy="19814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0" name="Oval 7"/>
            <p:cNvSpPr/>
            <p:nvPr/>
          </p:nvSpPr>
          <p:spPr>
            <a:xfrm>
              <a:off x="6143040" y="4572000"/>
              <a:ext cx="1610640" cy="114300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1" name="Oval 6"/>
            <p:cNvSpPr/>
            <p:nvPr/>
          </p:nvSpPr>
          <p:spPr>
            <a:xfrm>
              <a:off x="4437720" y="4572000"/>
              <a:ext cx="1610640" cy="1143000"/>
            </a:xfrm>
            <a:prstGeom prst="ellipse">
              <a:avLst/>
            </a:prstGeom>
            <a:solidFill>
              <a:srgbClr val="00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2" name="Text Box 9"/>
            <p:cNvSpPr/>
            <p:nvPr/>
          </p:nvSpPr>
          <p:spPr>
            <a:xfrm>
              <a:off x="6143040" y="4840200"/>
              <a:ext cx="1705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SimSun"/>
                </a:rPr>
                <a:t>Конкретные СОП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3" name="Text Box 8"/>
            <p:cNvSpPr/>
            <p:nvPr/>
          </p:nvSpPr>
          <p:spPr>
            <a:xfrm>
              <a:off x="4635000" y="4778280"/>
              <a:ext cx="12315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  <a:ea typeface="SimSun"/>
                </a:rPr>
                <a:t>Система качеств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4" name="Group 10"/>
          <p:cNvGrpSpPr/>
          <p:nvPr/>
        </p:nvGrpSpPr>
        <p:grpSpPr>
          <a:xfrm>
            <a:off x="2362320" y="1600200"/>
            <a:ext cx="1936800" cy="1066680"/>
            <a:chOff x="2362320" y="1600200"/>
            <a:chExt cx="1936800" cy="1066680"/>
          </a:xfrm>
        </p:grpSpPr>
        <p:sp>
          <p:nvSpPr>
            <p:cNvPr id="1805" name="Oval 11"/>
            <p:cNvSpPr/>
            <p:nvPr/>
          </p:nvSpPr>
          <p:spPr>
            <a:xfrm>
              <a:off x="2362320" y="1600200"/>
              <a:ext cx="190512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6" name="Text Box 12"/>
            <p:cNvSpPr/>
            <p:nvPr/>
          </p:nvSpPr>
          <p:spPr>
            <a:xfrm>
              <a:off x="2391120" y="1817280"/>
              <a:ext cx="1908000" cy="68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900" spc="-1" strike="noStrike">
                  <a:solidFill>
                    <a:srgbClr val="000000"/>
                  </a:solidFill>
                  <a:latin typeface="Arial"/>
                  <a:ea typeface="SimSun"/>
                </a:rPr>
                <a:t>Руководства по эксплуатации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7" name="Group 13"/>
          <p:cNvGrpSpPr/>
          <p:nvPr/>
        </p:nvGrpSpPr>
        <p:grpSpPr>
          <a:xfrm>
            <a:off x="1143000" y="3809880"/>
            <a:ext cx="1371600" cy="1066680"/>
            <a:chOff x="1143000" y="3809880"/>
            <a:chExt cx="1371600" cy="1066680"/>
          </a:xfrm>
        </p:grpSpPr>
        <p:sp>
          <p:nvSpPr>
            <p:cNvPr id="1808" name="Text Box 14"/>
            <p:cNvSpPr/>
            <p:nvPr/>
          </p:nvSpPr>
          <p:spPr>
            <a:xfrm>
              <a:off x="1295640" y="4114800"/>
              <a:ext cx="12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Книг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9" name="Oval 15"/>
            <p:cNvSpPr/>
            <p:nvPr/>
          </p:nvSpPr>
          <p:spPr>
            <a:xfrm>
              <a:off x="1143000" y="3809880"/>
              <a:ext cx="129564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0" name="Group 16"/>
          <p:cNvGrpSpPr/>
          <p:nvPr/>
        </p:nvGrpSpPr>
        <p:grpSpPr>
          <a:xfrm>
            <a:off x="1600200" y="2590920"/>
            <a:ext cx="1295280" cy="1066680"/>
            <a:chOff x="1600200" y="2590920"/>
            <a:chExt cx="1295280" cy="1066680"/>
          </a:xfrm>
        </p:grpSpPr>
        <p:sp>
          <p:nvSpPr>
            <p:cNvPr id="1811" name="Text Box 17"/>
            <p:cNvSpPr/>
            <p:nvPr/>
          </p:nvSpPr>
          <p:spPr>
            <a:xfrm>
              <a:off x="1676160" y="289548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Стать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2" name="Oval 18"/>
            <p:cNvSpPr/>
            <p:nvPr/>
          </p:nvSpPr>
          <p:spPr>
            <a:xfrm>
              <a:off x="1600200" y="2590920"/>
              <a:ext cx="129528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3" name="Group 19"/>
          <p:cNvGrpSpPr/>
          <p:nvPr/>
        </p:nvGrpSpPr>
        <p:grpSpPr>
          <a:xfrm>
            <a:off x="4552920" y="1371600"/>
            <a:ext cx="1619280" cy="1038240"/>
            <a:chOff x="4552920" y="1371600"/>
            <a:chExt cx="1619280" cy="1038240"/>
          </a:xfrm>
        </p:grpSpPr>
        <p:sp>
          <p:nvSpPr>
            <p:cNvPr id="1814" name="Text Box 20"/>
            <p:cNvSpPr/>
            <p:nvPr/>
          </p:nvSpPr>
          <p:spPr>
            <a:xfrm>
              <a:off x="4572000" y="1523880"/>
              <a:ext cx="1523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Тексты и закон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5" name="Oval 21"/>
            <p:cNvSpPr/>
            <p:nvPr/>
          </p:nvSpPr>
          <p:spPr>
            <a:xfrm>
              <a:off x="4552920" y="1371600"/>
              <a:ext cx="1619280" cy="10382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6" name="Group 22"/>
          <p:cNvGrpSpPr/>
          <p:nvPr/>
        </p:nvGrpSpPr>
        <p:grpSpPr>
          <a:xfrm>
            <a:off x="1371600" y="5029200"/>
            <a:ext cx="1523880" cy="1066680"/>
            <a:chOff x="1371600" y="5029200"/>
            <a:chExt cx="1523880" cy="1066680"/>
          </a:xfrm>
        </p:grpSpPr>
        <p:sp>
          <p:nvSpPr>
            <p:cNvPr id="1817" name="Oval 23"/>
            <p:cNvSpPr/>
            <p:nvPr/>
          </p:nvSpPr>
          <p:spPr>
            <a:xfrm>
              <a:off x="1476000" y="5029200"/>
              <a:ext cx="129528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8" name="Text Box 24"/>
            <p:cNvSpPr/>
            <p:nvPr/>
          </p:nvSpPr>
          <p:spPr>
            <a:xfrm>
              <a:off x="1371600" y="533376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Проче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19" name="Line 25"/>
          <p:cNvSpPr/>
          <p:nvPr/>
        </p:nvSpPr>
        <p:spPr>
          <a:xfrm flipH="1">
            <a:off x="2742840" y="5410080"/>
            <a:ext cx="3429000" cy="3049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0" name="Line 26"/>
          <p:cNvSpPr/>
          <p:nvPr/>
        </p:nvSpPr>
        <p:spPr>
          <a:xfrm flipH="1" flipV="1">
            <a:off x="2438280" y="4419720"/>
            <a:ext cx="2114640" cy="457200"/>
          </a:xfrm>
          <a:prstGeom prst="line">
            <a:avLst/>
          </a:prstGeom>
          <a:ln w="284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1" name="Line 27"/>
          <p:cNvSpPr/>
          <p:nvPr/>
        </p:nvSpPr>
        <p:spPr>
          <a:xfrm flipV="1">
            <a:off x="5099040" y="2437920"/>
            <a:ext cx="82440" cy="2133720"/>
          </a:xfrm>
          <a:prstGeom prst="line">
            <a:avLst/>
          </a:prstGeom>
          <a:ln w="284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2" name="Line 28"/>
          <p:cNvSpPr/>
          <p:nvPr/>
        </p:nvSpPr>
        <p:spPr>
          <a:xfrm flipH="1" flipV="1">
            <a:off x="2895480" y="3352680"/>
            <a:ext cx="3353040" cy="15242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3" name="Line 29"/>
          <p:cNvSpPr/>
          <p:nvPr/>
        </p:nvSpPr>
        <p:spPr>
          <a:xfrm flipH="1" flipV="1">
            <a:off x="3885840" y="2590920"/>
            <a:ext cx="2438280" cy="21873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4" name="Line 30"/>
          <p:cNvSpPr/>
          <p:nvPr/>
        </p:nvSpPr>
        <p:spPr>
          <a:xfrm flipH="1" flipV="1">
            <a:off x="2743200" y="3505320"/>
            <a:ext cx="1892160" cy="1272960"/>
          </a:xfrm>
          <a:prstGeom prst="line">
            <a:avLst/>
          </a:prstGeom>
          <a:ln w="284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5" name="Line 31"/>
          <p:cNvSpPr/>
          <p:nvPr/>
        </p:nvSpPr>
        <p:spPr>
          <a:xfrm flipH="1" flipV="1">
            <a:off x="5486040" y="2409840"/>
            <a:ext cx="1143000" cy="22384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6" name="Line 32"/>
          <p:cNvSpPr/>
          <p:nvPr/>
        </p:nvSpPr>
        <p:spPr>
          <a:xfrm flipH="1">
            <a:off x="2742840" y="5257800"/>
            <a:ext cx="1714680" cy="152280"/>
          </a:xfrm>
          <a:prstGeom prst="line">
            <a:avLst/>
          </a:prstGeom>
          <a:ln w="284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7" name="Line 33"/>
          <p:cNvSpPr/>
          <p:nvPr/>
        </p:nvSpPr>
        <p:spPr>
          <a:xfrm flipH="1" flipV="1">
            <a:off x="2361960" y="4571640"/>
            <a:ext cx="3809880" cy="6858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8" name="Text Box 34"/>
          <p:cNvSpPr/>
          <p:nvPr/>
        </p:nvSpPr>
        <p:spPr>
          <a:xfrm>
            <a:off x="6172200" y="2144880"/>
            <a:ext cx="281952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SimSun"/>
              </a:rPr>
              <a:t>Чтобы не усложнять управление качеством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SimSun"/>
              </a:rPr>
              <a:t>Список документов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SimSun"/>
              </a:rPr>
              <a:t> +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SimSun"/>
              </a:rPr>
              <a:t>простая нумера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SimSun"/>
              </a:rPr>
              <a:t>Ссылки на докумен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8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9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9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10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0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10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10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11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9" name="Footer Placeholder 3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43960-21A9-4034-AC7B-4E2631BC6DC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1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Ключевые положен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32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686800" cy="541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Есть только ОДНА официальная версия «Руководства по качеству»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абота над «Руководством по качеству» никогда не заканчивается, «Руководство» постоянно улучшается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«Руководство» должно быть прочитано, понято и принято всеми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но должно быть написано ясным, хорошо понятным языком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 «Руководстве» должны быть дата и подписи руководителей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ледует использовать стандартные заголовки на всех страницах и указывать номер версии каждой процедуры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одготовка «Руководства по качеству» – очень большая, но также и очень стоящая и полезная для лаборатории работа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3" name="Slide Number Placeholder 2"/>
          <p:cNvSpPr/>
          <p:nvPr/>
        </p:nvSpPr>
        <p:spPr>
          <a:xfrm>
            <a:off x="746748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057F0-080B-4203-BA65-A275A73ABF0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5105520" y="1218960"/>
            <a:ext cx="4038480" cy="19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Вопросы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Комментарии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835" name="Group 99"/>
          <p:cNvGrpSpPr/>
          <p:nvPr/>
        </p:nvGrpSpPr>
        <p:grpSpPr>
          <a:xfrm>
            <a:off x="264960" y="1143000"/>
            <a:ext cx="4700880" cy="4708440"/>
            <a:chOff x="264960" y="1143000"/>
            <a:chExt cx="4700880" cy="4708440"/>
          </a:xfrm>
        </p:grpSpPr>
        <p:sp>
          <p:nvSpPr>
            <p:cNvPr id="1836" name="AutoShape 4"/>
            <p:cNvSpPr/>
            <p:nvPr/>
          </p:nvSpPr>
          <p:spPr>
            <a:xfrm>
              <a:off x="264960" y="1143000"/>
              <a:ext cx="4700880" cy="4708440"/>
            </a:xfrm>
            <a:custGeom>
              <a:avLst/>
              <a:gdLst>
                <a:gd name="textAreaLeft" fmla="*/ 229320 w 4700880"/>
                <a:gd name="textAreaRight" fmla="*/ 4471560 w 4700880"/>
                <a:gd name="textAreaTop" fmla="*/ 229320 h 4708440"/>
                <a:gd name="textAreaBottom" fmla="*/ 4479120 h 4708440"/>
              </a:gdLst>
              <a:ahLst/>
              <a:rect l="textAreaLeft" t="textAreaTop" r="textAreaRight" b="textAreaBottom"/>
              <a:pathLst>
                <a:path w="21600" h="21635">
                  <a:moveTo>
                    <a:pt x="3600" y="0"/>
                  </a:moveTo>
                  <a:arcTo wR="3600" hR="3600" stAng="16200000" swAng="-5400000"/>
                  <a:lnTo>
                    <a:pt x="0" y="18035"/>
                  </a:lnTo>
                  <a:arcTo wR="3600" hR="3600" stAng="10800000" swAng="-5400000"/>
                  <a:lnTo>
                    <a:pt x="18000" y="2163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7" name="Freeform 9"/>
            <p:cNvSpPr/>
            <p:nvPr/>
          </p:nvSpPr>
          <p:spPr>
            <a:xfrm>
              <a:off x="2301120" y="3621240"/>
              <a:ext cx="109080" cy="6336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8" name="Freeform 10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9" name="Freeform 11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0" name="Freeform 12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1" name="Freeform 13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2" name="Freeform 16"/>
            <p:cNvSpPr/>
            <p:nvPr/>
          </p:nvSpPr>
          <p:spPr>
            <a:xfrm>
              <a:off x="1062720" y="3062880"/>
              <a:ext cx="152280" cy="9936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3" name="Freeform 22"/>
            <p:cNvSpPr/>
            <p:nvPr/>
          </p:nvSpPr>
          <p:spPr>
            <a:xfrm>
              <a:off x="1052640" y="3007800"/>
              <a:ext cx="155160" cy="3456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4" name="Line 24"/>
            <p:cNvSpPr/>
            <p:nvPr/>
          </p:nvSpPr>
          <p:spPr>
            <a:xfrm flipH="1" flipV="1">
              <a:off x="2673000" y="5500440"/>
              <a:ext cx="10080" cy="403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5" name="Line 25"/>
            <p:cNvSpPr/>
            <p:nvPr/>
          </p:nvSpPr>
          <p:spPr>
            <a:xfrm flipV="1">
              <a:off x="2435040" y="4480920"/>
              <a:ext cx="1440" cy="907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6" name="Line 27"/>
            <p:cNvSpPr/>
            <p:nvPr/>
          </p:nvSpPr>
          <p:spPr>
            <a:xfrm>
              <a:off x="4066920" y="1722600"/>
              <a:ext cx="1440" cy="35676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7" name="Line 27"/>
            <p:cNvSpPr/>
            <p:nvPr/>
          </p:nvSpPr>
          <p:spPr>
            <a:xfrm>
              <a:off x="2615040" y="1861200"/>
              <a:ext cx="144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8" name="Line 27"/>
            <p:cNvSpPr/>
            <p:nvPr/>
          </p:nvSpPr>
          <p:spPr>
            <a:xfrm>
              <a:off x="1094400" y="1904400"/>
              <a:ext cx="108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9" name="Line 27"/>
            <p:cNvSpPr/>
            <p:nvPr/>
          </p:nvSpPr>
          <p:spPr>
            <a:xfrm flipH="1">
              <a:off x="817200" y="1764360"/>
              <a:ext cx="356148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50" name="Group 65"/>
            <p:cNvGrpSpPr/>
            <p:nvPr/>
          </p:nvGrpSpPr>
          <p:grpSpPr>
            <a:xfrm>
              <a:off x="541080" y="1223640"/>
              <a:ext cx="1144440" cy="1035360"/>
              <a:chOff x="541080" y="1223640"/>
              <a:chExt cx="1144440" cy="1035360"/>
            </a:xfrm>
          </p:grpSpPr>
          <p:grpSp>
            <p:nvGrpSpPr>
              <p:cNvPr id="1851" name="Group 66"/>
              <p:cNvGrpSpPr/>
              <p:nvPr/>
            </p:nvGrpSpPr>
            <p:grpSpPr>
              <a:xfrm>
                <a:off x="541080" y="1223640"/>
                <a:ext cx="1123920" cy="1035360"/>
                <a:chOff x="541080" y="1223640"/>
                <a:chExt cx="1123920" cy="1035360"/>
              </a:xfrm>
            </p:grpSpPr>
            <p:grpSp>
              <p:nvGrpSpPr>
                <p:cNvPr id="1852" name="Group 67"/>
                <p:cNvGrpSpPr/>
                <p:nvPr/>
              </p:nvGrpSpPr>
              <p:grpSpPr>
                <a:xfrm>
                  <a:off x="587880" y="1223640"/>
                  <a:ext cx="1045440" cy="1035360"/>
                  <a:chOff x="587880" y="1223640"/>
                  <a:chExt cx="1045440" cy="1035360"/>
                </a:xfrm>
              </p:grpSpPr>
              <p:sp>
                <p:nvSpPr>
                  <p:cNvPr id="1853" name="Freeform 68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54" name="Freeform 69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855" name="Text Box 70"/>
                <p:cNvSpPr/>
                <p:nvPr/>
              </p:nvSpPr>
              <p:spPr>
                <a:xfrm>
                  <a:off x="541080" y="1462320"/>
                  <a:ext cx="1123920" cy="24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56" name="Text Box 71"/>
              <p:cNvSpPr/>
              <p:nvPr/>
            </p:nvSpPr>
            <p:spPr>
              <a:xfrm>
                <a:off x="561600" y="1593000"/>
                <a:ext cx="1123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7" name="Group 72"/>
            <p:cNvGrpSpPr/>
            <p:nvPr/>
          </p:nvGrpSpPr>
          <p:grpSpPr>
            <a:xfrm>
              <a:off x="2043360" y="1223640"/>
              <a:ext cx="1124640" cy="1035360"/>
              <a:chOff x="2043360" y="1223640"/>
              <a:chExt cx="1124640" cy="1035360"/>
            </a:xfrm>
          </p:grpSpPr>
          <p:sp>
            <p:nvSpPr>
              <p:cNvPr id="1858" name="Freeform 73"/>
              <p:cNvSpPr/>
              <p:nvPr/>
            </p:nvSpPr>
            <p:spPr>
              <a:xfrm>
                <a:off x="2080440" y="1223640"/>
                <a:ext cx="1046160" cy="1035360"/>
              </a:xfrm>
              <a:custGeom>
                <a:avLst/>
                <a:gdLst>
                  <a:gd name="textAreaLeft" fmla="*/ 0 w 1046160"/>
                  <a:gd name="textAreaRight" fmla="*/ 1046520 w 104616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9" name="Text Box 74"/>
              <p:cNvSpPr/>
              <p:nvPr/>
            </p:nvSpPr>
            <p:spPr>
              <a:xfrm>
                <a:off x="2043360" y="159300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60" name="Group 75"/>
            <p:cNvGrpSpPr/>
            <p:nvPr/>
          </p:nvGrpSpPr>
          <p:grpSpPr>
            <a:xfrm>
              <a:off x="3495240" y="1223640"/>
              <a:ext cx="1124640" cy="1035360"/>
              <a:chOff x="3495240" y="1223640"/>
              <a:chExt cx="1124640" cy="1035360"/>
            </a:xfrm>
          </p:grpSpPr>
          <p:grpSp>
            <p:nvGrpSpPr>
              <p:cNvPr id="1861" name="Group 76"/>
              <p:cNvGrpSpPr/>
              <p:nvPr/>
            </p:nvGrpSpPr>
            <p:grpSpPr>
              <a:xfrm>
                <a:off x="3536280" y="1223640"/>
                <a:ext cx="1046160" cy="1035360"/>
                <a:chOff x="3536280" y="1223640"/>
                <a:chExt cx="1046160" cy="1035360"/>
              </a:xfrm>
            </p:grpSpPr>
            <p:sp>
              <p:nvSpPr>
                <p:cNvPr id="1862" name="Freeform 77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3" name="Freeform 78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64" name="Text Box 79"/>
              <p:cNvSpPr/>
              <p:nvPr/>
            </p:nvSpPr>
            <p:spPr>
              <a:xfrm>
                <a:off x="3495240" y="159552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65" name="Line 27"/>
            <p:cNvSpPr/>
            <p:nvPr/>
          </p:nvSpPr>
          <p:spPr>
            <a:xfrm flipH="1">
              <a:off x="886680" y="294192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66" name="Group 130"/>
            <p:cNvGrpSpPr/>
            <p:nvPr/>
          </p:nvGrpSpPr>
          <p:grpSpPr>
            <a:xfrm>
              <a:off x="541080" y="2389320"/>
              <a:ext cx="1052640" cy="1035360"/>
              <a:chOff x="541080" y="2389320"/>
              <a:chExt cx="1052640" cy="1035360"/>
            </a:xfrm>
          </p:grpSpPr>
          <p:sp>
            <p:nvSpPr>
              <p:cNvPr id="1867" name="Freeform 46"/>
              <p:cNvSpPr/>
              <p:nvPr/>
            </p:nvSpPr>
            <p:spPr>
              <a:xfrm>
                <a:off x="545040" y="2389320"/>
                <a:ext cx="1048320" cy="1035360"/>
              </a:xfrm>
              <a:custGeom>
                <a:avLst/>
                <a:gdLst>
                  <a:gd name="textAreaLeft" fmla="*/ 0 w 1048320"/>
                  <a:gd name="textAreaRight" fmla="*/ 1048680 w 104832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8" name="Text Box 47"/>
              <p:cNvSpPr/>
              <p:nvPr/>
            </p:nvSpPr>
            <p:spPr>
              <a:xfrm>
                <a:off x="541080" y="2654280"/>
                <a:ext cx="1052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000"/>
                </a:b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69" name="Freeform 31"/>
            <p:cNvSpPr/>
            <p:nvPr/>
          </p:nvSpPr>
          <p:spPr>
            <a:xfrm>
              <a:off x="2088000" y="2443680"/>
              <a:ext cx="1045800" cy="1037160"/>
            </a:xfrm>
            <a:custGeom>
              <a:avLst/>
              <a:gdLst>
                <a:gd name="textAreaLeft" fmla="*/ 0 w 1045800"/>
                <a:gd name="textAreaRight" fmla="*/ 1046160 w 104580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0" name="Text Box 43"/>
            <p:cNvSpPr/>
            <p:nvPr/>
          </p:nvSpPr>
          <p:spPr>
            <a:xfrm>
              <a:off x="2092320" y="2739960"/>
              <a:ext cx="10422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71" name="Group 135"/>
            <p:cNvGrpSpPr/>
            <p:nvPr/>
          </p:nvGrpSpPr>
          <p:grpSpPr>
            <a:xfrm>
              <a:off x="3489480" y="2404800"/>
              <a:ext cx="1159200" cy="1035360"/>
              <a:chOff x="3489480" y="2404800"/>
              <a:chExt cx="1159200" cy="1035360"/>
            </a:xfrm>
          </p:grpSpPr>
          <p:sp>
            <p:nvSpPr>
              <p:cNvPr id="1872" name="Freeform 48"/>
              <p:cNvSpPr/>
              <p:nvPr/>
            </p:nvSpPr>
            <p:spPr>
              <a:xfrm>
                <a:off x="3513960" y="240480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3" name="Text Box 55"/>
              <p:cNvSpPr/>
              <p:nvPr/>
            </p:nvSpPr>
            <p:spPr>
              <a:xfrm>
                <a:off x="3489480" y="2741040"/>
                <a:ext cx="11592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74" name="Line 27"/>
            <p:cNvSpPr/>
            <p:nvPr/>
          </p:nvSpPr>
          <p:spPr>
            <a:xfrm flipH="1">
              <a:off x="817200" y="405108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75" name="Group 139"/>
            <p:cNvGrpSpPr/>
            <p:nvPr/>
          </p:nvGrpSpPr>
          <p:grpSpPr>
            <a:xfrm>
              <a:off x="541080" y="3572280"/>
              <a:ext cx="1092960" cy="1036800"/>
              <a:chOff x="541080" y="3572280"/>
              <a:chExt cx="1092960" cy="1036800"/>
            </a:xfrm>
          </p:grpSpPr>
          <p:sp>
            <p:nvSpPr>
              <p:cNvPr id="1876" name="Freeform 81"/>
              <p:cNvSpPr/>
              <p:nvPr/>
            </p:nvSpPr>
            <p:spPr>
              <a:xfrm>
                <a:off x="569880" y="3572280"/>
                <a:ext cx="1046520" cy="1036800"/>
              </a:xfrm>
              <a:custGeom>
                <a:avLst/>
                <a:gdLst>
                  <a:gd name="textAreaLeft" fmla="*/ 0 w 1046520"/>
                  <a:gd name="textAreaRight" fmla="*/ 1046880 w 104652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7" name="Text Box 82"/>
              <p:cNvSpPr/>
              <p:nvPr/>
            </p:nvSpPr>
            <p:spPr>
              <a:xfrm>
                <a:off x="541080" y="3852000"/>
                <a:ext cx="10929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78" name="Group 142"/>
            <p:cNvGrpSpPr/>
            <p:nvPr/>
          </p:nvGrpSpPr>
          <p:grpSpPr>
            <a:xfrm>
              <a:off x="2043360" y="3572280"/>
              <a:ext cx="1124640" cy="1036800"/>
              <a:chOff x="2043360" y="3572280"/>
              <a:chExt cx="1124640" cy="1036800"/>
            </a:xfrm>
          </p:grpSpPr>
          <p:sp>
            <p:nvSpPr>
              <p:cNvPr id="1879" name="Freeform 30"/>
              <p:cNvSpPr/>
              <p:nvPr/>
            </p:nvSpPr>
            <p:spPr>
              <a:xfrm>
                <a:off x="2067840" y="3572280"/>
                <a:ext cx="1046880" cy="103680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0" name="Text Box 54"/>
              <p:cNvSpPr/>
              <p:nvPr/>
            </p:nvSpPr>
            <p:spPr>
              <a:xfrm>
                <a:off x="2043360" y="3791520"/>
                <a:ext cx="1124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81" name="Freeform 50"/>
            <p:cNvSpPr/>
            <p:nvPr/>
          </p:nvSpPr>
          <p:spPr>
            <a:xfrm>
              <a:off x="3513960" y="3566160"/>
              <a:ext cx="1046880" cy="1037160"/>
            </a:xfrm>
            <a:custGeom>
              <a:avLst/>
              <a:gdLst>
                <a:gd name="textAreaLeft" fmla="*/ 0 w 1046880"/>
                <a:gd name="textAreaRight" fmla="*/ 1047240 w 104688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2" name="Text Box 51"/>
            <p:cNvSpPr/>
            <p:nvPr/>
          </p:nvSpPr>
          <p:spPr>
            <a:xfrm>
              <a:off x="3485160" y="3941640"/>
              <a:ext cx="1124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3" name="Line 27"/>
            <p:cNvSpPr/>
            <p:nvPr/>
          </p:nvSpPr>
          <p:spPr>
            <a:xfrm flipH="1">
              <a:off x="886680" y="522684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84" name="Group 148"/>
            <p:cNvGrpSpPr/>
            <p:nvPr/>
          </p:nvGrpSpPr>
          <p:grpSpPr>
            <a:xfrm>
              <a:off x="564120" y="4746240"/>
              <a:ext cx="1121760" cy="1035360"/>
              <a:chOff x="564120" y="4746240"/>
              <a:chExt cx="1121760" cy="1035360"/>
            </a:xfrm>
          </p:grpSpPr>
          <p:sp>
            <p:nvSpPr>
              <p:cNvPr id="1885" name="Freeform 57"/>
              <p:cNvSpPr/>
              <p:nvPr/>
            </p:nvSpPr>
            <p:spPr>
              <a:xfrm>
                <a:off x="606960" y="4746240"/>
                <a:ext cx="1045440" cy="103536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6" name="Text Box 58"/>
              <p:cNvSpPr/>
              <p:nvPr/>
            </p:nvSpPr>
            <p:spPr>
              <a:xfrm>
                <a:off x="564120" y="5027760"/>
                <a:ext cx="11217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87" name="Group 151"/>
            <p:cNvGrpSpPr/>
            <p:nvPr/>
          </p:nvGrpSpPr>
          <p:grpSpPr>
            <a:xfrm>
              <a:off x="2043360" y="4686840"/>
              <a:ext cx="1124640" cy="1035720"/>
              <a:chOff x="2043360" y="4686840"/>
              <a:chExt cx="1124640" cy="1035720"/>
            </a:xfrm>
          </p:grpSpPr>
          <p:sp>
            <p:nvSpPr>
              <p:cNvPr id="1888" name="Freeform 34"/>
              <p:cNvSpPr/>
              <p:nvPr/>
            </p:nvSpPr>
            <p:spPr>
              <a:xfrm>
                <a:off x="2087640" y="4686840"/>
                <a:ext cx="1045440" cy="103572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720"/>
                  <a:gd name="textAreaBottom" fmla="*/ 1036080 h 10357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9" name="Text Box 61"/>
              <p:cNvSpPr/>
              <p:nvPr/>
            </p:nvSpPr>
            <p:spPr>
              <a:xfrm>
                <a:off x="2043360" y="5027400"/>
                <a:ext cx="112464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90" name="Group 154"/>
            <p:cNvGrpSpPr/>
            <p:nvPr/>
          </p:nvGrpSpPr>
          <p:grpSpPr>
            <a:xfrm>
              <a:off x="3485160" y="4746240"/>
              <a:ext cx="1159200" cy="1035360"/>
              <a:chOff x="3485160" y="4746240"/>
              <a:chExt cx="1159200" cy="1035360"/>
            </a:xfrm>
          </p:grpSpPr>
          <p:sp>
            <p:nvSpPr>
              <p:cNvPr id="1891" name="Freeform 63"/>
              <p:cNvSpPr/>
              <p:nvPr/>
            </p:nvSpPr>
            <p:spPr>
              <a:xfrm>
                <a:off x="3530880" y="474624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2" name="Text Box 64"/>
              <p:cNvSpPr/>
              <p:nvPr/>
            </p:nvSpPr>
            <p:spPr>
              <a:xfrm>
                <a:off x="3485160" y="4967640"/>
                <a:ext cx="11592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893" name="Footer Placeholder 1"/>
          <p:cNvSpPr/>
          <p:nvPr/>
        </p:nvSpPr>
        <p:spPr>
          <a:xfrm>
            <a:off x="457200" y="6400800"/>
            <a:ext cx="655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7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F2578-B62D-4F46-9824-860D56CBF31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PlaceHolder 1"/>
          <p:cNvSpPr>
            <a:spLocks noGrp="1"/>
          </p:cNvSpPr>
          <p:nvPr>
            <p:ph type="title"/>
          </p:nvPr>
        </p:nvSpPr>
        <p:spPr>
          <a:xfrm>
            <a:off x="456840" y="399960"/>
            <a:ext cx="716292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Написание «Руководства по качеству»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09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456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ребуется стандартом ИСО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15189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, но стиль и структура не задан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оздайте руководящий комите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зработайте руководящие принципы для каждого из 12 элементов системы качеств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 каждому руководящему принципу сформулируйте цели и распределите ответственнос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«Руководство» должно содержать руководящие принципы в отношении качества и ссылки на процессы и процедуры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0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1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2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9D588-295F-4D45-85AD-51F64785B8C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3" name="PlaceHolder 1"/>
          <p:cNvSpPr>
            <a:spLocks noGrp="1"/>
          </p:cNvSpPr>
          <p:nvPr>
            <p:ph type="title"/>
          </p:nvPr>
        </p:nvSpPr>
        <p:spPr>
          <a:xfrm>
            <a:off x="533520" y="426960"/>
            <a:ext cx="815328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План «Руководства по качеству»</a:t>
            </a:r>
            <a:r>
              <a:rPr b="0" lang="ru-RU" sz="4000" spc="-1" strike="noStrike">
                <a:solidFill>
                  <a:srgbClr val="00007d"/>
                </a:solidFill>
                <a:latin typeface="Verdana"/>
                <a:ea typeface="SimSun"/>
              </a:rPr>
              <a:t> 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  <a:ea typeface="SimSun"/>
              </a:rPr>
              <a:t>(пример)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14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8153280" cy="45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Введе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Организация и управле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Политика в области качеств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Персонал (образование и обучение персонала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SimSu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Контроль документации, включая записи, поддержание и архивирова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Помещения и окружающая сред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5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6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08F37-8603-40E3-8446-E067211CDE5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PlaceHolder 1"/>
          <p:cNvSpPr>
            <a:spLocks noGrp="1"/>
          </p:cNvSpPr>
          <p:nvPr>
            <p:ph/>
          </p:nvPr>
        </p:nvSpPr>
        <p:spPr>
          <a:xfrm>
            <a:off x="685440" y="1294920"/>
            <a:ext cx="8001000" cy="508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Управление оборудованием, реагентами, расходными материалам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Безопасность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Исследования и разработки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(факультативно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Процедуры до исследова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Процедуры исследова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Процедуры после исследова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Контроль качеств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8" name="Rectangle 2"/>
          <p:cNvSpPr/>
          <p:nvPr/>
        </p:nvSpPr>
        <p:spPr>
          <a:xfrm>
            <a:off x="152280" y="48996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План «Руководства по качеству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9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46460-AE32-4CBB-A305-A0305666119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1" name="PlaceHolder 1"/>
          <p:cNvSpPr>
            <a:spLocks noGrp="1"/>
          </p:cNvSpPr>
          <p:nvPr>
            <p:ph/>
          </p:nvPr>
        </p:nvSpPr>
        <p:spPr>
          <a:xfrm>
            <a:off x="380880" y="1314360"/>
            <a:ext cx="8763120" cy="493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Информационная система лаборатори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Реагирование на жалобы – управление нештатными ситуациям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Передача информации и другие виды взаимодейств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Предупреждающие и корректирующие действия, внутренний аудит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Вопросы этик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2" name="Rectangle 2"/>
          <p:cNvSpPr/>
          <p:nvPr/>
        </p:nvSpPr>
        <p:spPr>
          <a:xfrm>
            <a:off x="152280" y="48996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План «Руководства по качеству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3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4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D3240-3DF6-4487-B831-637DFD75E40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5" name="PlaceHolder 1"/>
          <p:cNvSpPr>
            <a:spLocks noGrp="1"/>
          </p:cNvSpPr>
          <p:nvPr>
            <p:ph/>
          </p:nvPr>
        </p:nvSpPr>
        <p:spPr>
          <a:xfrm>
            <a:off x="685440" y="1577520"/>
            <a:ext cx="8077320" cy="390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история лаборатори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виды деятельност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сфера применения «Руководства»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обновление «Руководства»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кто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что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гд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6" name="Rectangle 4"/>
          <p:cNvSpPr/>
          <p:nvPr/>
        </p:nvSpPr>
        <p:spPr>
          <a:xfrm>
            <a:off x="609480" y="574920"/>
            <a:ext cx="510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SimSun"/>
              </a:rPr>
              <a:t>1.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Введе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7" name="Text Box 5"/>
          <p:cNvSpPr/>
          <p:nvPr/>
        </p:nvSpPr>
        <p:spPr>
          <a:xfrm>
            <a:off x="3581280" y="3909960"/>
            <a:ext cx="335304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5000"/>
              </a:lnSpc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ког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ка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почем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8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9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FB568-7845-4652-9789-F479F68D401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0" name="PlaceHolder 1"/>
          <p:cNvSpPr>
            <a:spLocks noGrp="1"/>
          </p:cNvSpPr>
          <p:nvPr>
            <p:ph/>
          </p:nvPr>
        </p:nvSpPr>
        <p:spPr>
          <a:xfrm>
            <a:off x="533160" y="1839960"/>
            <a:ext cx="8381880" cy="33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описание организации лаборатори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юридическая идентификац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потребности в ресурсах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распределение ответственности и полномочий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1" name="Rectangle 4"/>
          <p:cNvSpPr/>
          <p:nvPr/>
        </p:nvSpPr>
        <p:spPr>
          <a:xfrm>
            <a:off x="533520" y="533520"/>
            <a:ext cx="7924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SimSun"/>
              </a:rPr>
              <a:t>2.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Организация и управле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3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6F1C3-E40D-4F62-A95E-1169D138633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SimSun"/>
              </a:rPr>
              <a:t>3.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Политика в области качества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35" name="PlaceHolder 2"/>
          <p:cNvSpPr>
            <a:spLocks noGrp="1"/>
          </p:cNvSpPr>
          <p:nvPr>
            <p:ph/>
          </p:nvPr>
        </p:nvSpPr>
        <p:spPr>
          <a:xfrm>
            <a:off x="762120" y="1220760"/>
            <a:ext cx="8229600" cy="49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официальное заявление руководства лаборатории о политике в области качеств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утверждение, что руководитель лаборатории назначит менеджера по качеству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дает определения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мисс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целе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роле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6" name="Rectangle 4"/>
          <p:cNvSpPr/>
          <p:nvPr/>
        </p:nvSpPr>
        <p:spPr>
          <a:xfrm>
            <a:off x="609480" y="-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1T22:20:40Z</dcterms:created>
  <dc:creator>Robin Barteluk</dc:creator>
  <dc:description/>
  <dc:language>en-US</dc:language>
  <cp:lastModifiedBy>Olga</cp:lastModifiedBy>
  <dcterms:modified xsi:type="dcterms:W3CDTF">2013-05-20T13:01:10Z</dcterms:modified>
  <cp:revision>72</cp:revision>
  <dc:subject/>
  <dc:title>Example of Written Policy CLSI HS1</dc:title>
</cp:coreProperties>
</file>